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33.jpeg" ContentType="image/jpeg"/>
  <Override PartName="/ppt/media/image28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29.wmf" ContentType="image/x-wmf"/>
  <Override PartName="/ppt/media/image11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9.png" ContentType="image/png"/>
  <Override PartName="/ppt/media/image6.png" ContentType="image/png"/>
  <Override PartName="/ppt/media/image34.wmf" ContentType="image/x-wmf"/>
  <Override PartName="/ppt/media/image14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1.wmf" ContentType="image/x-wmf"/>
  <Override PartName="/ppt/media/image16.jpeg" ContentType="image/jpe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804A-AD12-411E-BC9D-96D0484D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3AE7-10F8-4887-B4E5-A28DDFAF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05F8-A0EC-40D1-B3AB-EACFF923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3DEE-B5B3-481D-9679-8A61B80E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E094-DED0-4832-8860-27469E93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4731-AE99-4E3C-9F2A-1BDF72C8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ED6D-1426-4178-BE32-14210422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4C0B-9303-4B30-AABC-4EBD10DF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E770-1062-4D26-A328-E3D08E05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24E-1164-4DE3-B0D3-ED63D5F7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D819-9093-4A30-B61A-6758FB57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5B8F-DC5A-4AC3-A84C-72FD5762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ED8A-E49F-4B12-8598-F8A7F59C7AF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venus.ceride.gov.ar/mecom2002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urbina1" descr=""/>
          <p:cNvPicPr/>
          <p:nvPr/>
        </p:nvPicPr>
        <p:blipFill>
          <a:blip r:embed="rId1"/>
          <a:stretch/>
        </p:blipFill>
        <p:spPr>
          <a:xfrm>
            <a:off x="5002200" y="4219560"/>
            <a:ext cx="4141800" cy="2638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el R. Marchegiani</a:t>
            </a:r>
            <a:r>
              <a:rPr b="1" lang="es-AR" sz="1600" spc="-1" strike="noStrike">
                <a:solidFill>
                  <a:srgbClr val="000000"/>
                </a:solidFill>
                <a:latin typeface="Times New"/>
              </a:rPr>
              <a:t> *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berto M. Nigro</a:t>
            </a:r>
            <a:r>
              <a:rPr b="1" lang="es-AR" sz="1600" spc="-1" strike="noStrike">
                <a:solidFill>
                  <a:srgbClr val="000000"/>
                </a:solidFill>
                <a:latin typeface="Times New"/>
              </a:rPr>
              <a:t>**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io A. Storti</a:t>
            </a:r>
            <a:r>
              <a:rPr b="1" lang="es-AR" sz="1600" spc="-1" strike="noStrike">
                <a:solidFill>
                  <a:srgbClr val="000000"/>
                </a:solidFill>
                <a:latin typeface="Times New"/>
              </a:rPr>
              <a:t>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Laboratorio de Máquinas Hidráulicas (La.M.Hi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to de Mecánica Aplicada -Facultad de Ingenier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DAD NACIONAL DEL COMAH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marchegi@uncoma.edu.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</a:t>
            </a:r>
            <a:r>
              <a:rPr b="0" lang="es-AR" sz="1600" spc="-1" strike="noStrike">
                <a:solidFill>
                  <a:srgbClr val="000000"/>
                </a:solidFill>
                <a:latin typeface="CMR9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o Internacional de Métodos Computacionales en Ingeniería (CIMEC-INT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dad Nacional del Litoral - CONIC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nnigro@intec.unl.edu.ar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440" y="7617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ACION NUMERICA DEL FLUJO EN EL INYECTOR DE  UNA  TURBINA HIDRÁULICA DE FLUJO TRANSVERS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0020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imectransp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066680" cy="38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47920" y="304920"/>
            <a:ext cx="60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entro Internacional de Métodos Computacionales en Ingenie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ecomlogo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48720" y="304920"/>
            <a:ext cx="99036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4191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IFERENTES TIPOS DE INYECTORES CON REGUL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banki_12_0001" descr=""/>
          <p:cNvPicPr/>
          <p:nvPr/>
        </p:nvPicPr>
        <p:blipFill>
          <a:blip r:embed="rId1"/>
          <a:stretch/>
        </p:blipFill>
        <p:spPr>
          <a:xfrm>
            <a:off x="4259160" y="-76320"/>
            <a:ext cx="488484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YECTOR PROPUESTO POR LA O.L.A.D.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banki_13_0001" descr=""/>
          <p:cNvPicPr/>
          <p:nvPr/>
        </p:nvPicPr>
        <p:blipFill>
          <a:blip r:embed="rId1"/>
          <a:stretch/>
        </p:blipFill>
        <p:spPr>
          <a:xfrm>
            <a:off x="1219320" y="1654200"/>
            <a:ext cx="737208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YECTOR PROPUESTO POR LA U.N.L.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iny-ap100" descr=""/>
          <p:cNvPicPr/>
          <p:nvPr/>
        </p:nvPicPr>
        <p:blipFill>
          <a:blip r:embed="rId1"/>
          <a:stretch/>
        </p:blipFill>
        <p:spPr>
          <a:xfrm>
            <a:off x="5562720" y="304920"/>
            <a:ext cx="2743200" cy="1603080"/>
          </a:xfrm>
          <a:prstGeom prst="rect">
            <a:avLst/>
          </a:prstGeom>
          <a:ln w="0">
            <a:noFill/>
          </a:ln>
        </p:spPr>
      </p:pic>
      <p:pic>
        <p:nvPicPr>
          <p:cNvPr id="268" name="iny-ap20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2743200" cy="160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1905120" y="2971800"/>
          <a:ext cx="6627600" cy="382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971800"/>
                    <a:ext cx="662760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1" name=""/>
          <p:cNvGrpSpPr/>
          <p:nvPr/>
        </p:nvGrpSpPr>
        <p:grpSpPr>
          <a:xfrm>
            <a:off x="3657600" y="2286000"/>
            <a:ext cx="5333760" cy="1143000"/>
            <a:chOff x="3657600" y="2286000"/>
            <a:chExt cx="5333760" cy="1143000"/>
          </a:xfrm>
        </p:grpSpPr>
        <p:grpSp>
          <p:nvGrpSpPr>
            <p:cNvPr id="272" name=""/>
            <p:cNvGrpSpPr/>
            <p:nvPr/>
          </p:nvGrpSpPr>
          <p:grpSpPr>
            <a:xfrm>
              <a:off x="3666240" y="2287080"/>
              <a:ext cx="5315040" cy="1140120"/>
              <a:chOff x="3666240" y="2287080"/>
              <a:chExt cx="5315040" cy="11401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3666240" y="2287080"/>
                <a:ext cx="1704240" cy="227880"/>
                <a:chOff x="3666240" y="2287080"/>
                <a:chExt cx="1704240" cy="2278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3748680" y="2287080"/>
                  <a:ext cx="1539000" cy="22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ertura [%]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666240" y="2287080"/>
                  <a:ext cx="1704240" cy="22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370840" y="2287080"/>
                <a:ext cx="1935000" cy="227880"/>
                <a:chOff x="5370840" y="2287080"/>
                <a:chExt cx="1935000" cy="2278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453280" y="2287080"/>
                  <a:ext cx="1769040" cy="22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UDAL [l/s]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370840" y="2287080"/>
                  <a:ext cx="1935000" cy="22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7306560" y="2287080"/>
                <a:ext cx="1674720" cy="227880"/>
                <a:chOff x="7306560" y="2287080"/>
                <a:chExt cx="1674720" cy="2278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7389000" y="2287080"/>
                  <a:ext cx="1508760" cy="22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RCHIV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306560" y="2287080"/>
                  <a:ext cx="1674720" cy="22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3666240" y="2514960"/>
                <a:ext cx="1704240" cy="227880"/>
                <a:chOff x="3666240" y="2514960"/>
                <a:chExt cx="1704240" cy="2278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3748680" y="2514960"/>
                  <a:ext cx="1539000" cy="22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666240" y="2514960"/>
                  <a:ext cx="1704240" cy="22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5370840" y="2514960"/>
                <a:ext cx="1935000" cy="227880"/>
                <a:chOff x="5370840" y="2514960"/>
                <a:chExt cx="1935000" cy="2278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5453280" y="2514960"/>
                  <a:ext cx="1769040" cy="22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370840" y="2514960"/>
                  <a:ext cx="1935000" cy="22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7306560" y="2514960"/>
                <a:ext cx="1674720" cy="227880"/>
                <a:chOff x="7306560" y="2514960"/>
                <a:chExt cx="1674720" cy="22788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7389000" y="2514960"/>
                  <a:ext cx="1508760" cy="22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y-100%.dx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306560" y="2514960"/>
                  <a:ext cx="1674720" cy="22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666240" y="2743200"/>
                <a:ext cx="1704240" cy="227880"/>
                <a:chOff x="3666240" y="2743200"/>
                <a:chExt cx="1704240" cy="2278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748680" y="2743200"/>
                  <a:ext cx="1539000" cy="22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666240" y="2743200"/>
                  <a:ext cx="1704240" cy="22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370840" y="2743200"/>
                <a:ext cx="1935000" cy="227880"/>
                <a:chOff x="5370840" y="2743200"/>
                <a:chExt cx="1935000" cy="2278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453280" y="2743200"/>
                  <a:ext cx="1769040" cy="22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370840" y="2743200"/>
                  <a:ext cx="1935000" cy="22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7306560" y="2743200"/>
                <a:ext cx="1674720" cy="227880"/>
                <a:chOff x="7306560" y="2743200"/>
                <a:chExt cx="1674720" cy="2278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7389000" y="2743200"/>
                  <a:ext cx="1508760" cy="22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y-80%.dx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306560" y="2743200"/>
                  <a:ext cx="1674720" cy="22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3666240" y="2971080"/>
                <a:ext cx="1704240" cy="227880"/>
                <a:chOff x="3666240" y="2971080"/>
                <a:chExt cx="1704240" cy="2278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3748680" y="2971080"/>
                  <a:ext cx="1539000" cy="22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666240" y="2971080"/>
                  <a:ext cx="1704240" cy="22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5370840" y="2971080"/>
                <a:ext cx="1935000" cy="227880"/>
                <a:chOff x="5370840" y="2971080"/>
                <a:chExt cx="1935000" cy="2278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453280" y="2971080"/>
                  <a:ext cx="1769040" cy="22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370840" y="2971080"/>
                  <a:ext cx="1935000" cy="22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7306560" y="2971080"/>
                <a:ext cx="1674720" cy="227880"/>
                <a:chOff x="7306560" y="2971080"/>
                <a:chExt cx="1674720" cy="2278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7389000" y="2971080"/>
                  <a:ext cx="1508760" cy="22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y-60%.dx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306560" y="2971080"/>
                  <a:ext cx="1674720" cy="22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666240" y="3199320"/>
                <a:ext cx="1704240" cy="227880"/>
                <a:chOff x="3666240" y="3199320"/>
                <a:chExt cx="1704240" cy="22788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748680" y="3199320"/>
                  <a:ext cx="1539000" cy="22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666240" y="3199320"/>
                  <a:ext cx="1704240" cy="22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370840" y="3199320"/>
                <a:ext cx="1935000" cy="227880"/>
                <a:chOff x="5370840" y="3199320"/>
                <a:chExt cx="1935000" cy="2278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453280" y="3199320"/>
                  <a:ext cx="1769040" cy="22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370840" y="3199320"/>
                  <a:ext cx="1935000" cy="22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7306560" y="3199320"/>
                <a:ext cx="1674720" cy="227880"/>
                <a:chOff x="7306560" y="3199320"/>
                <a:chExt cx="1674720" cy="22788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7389000" y="3199320"/>
                  <a:ext cx="1508760" cy="22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y-20%.dx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306560" y="3199320"/>
                  <a:ext cx="1674720" cy="22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8" name=""/>
            <p:cNvSpPr/>
            <p:nvPr/>
          </p:nvSpPr>
          <p:spPr>
            <a:xfrm>
              <a:off x="3657600" y="2286000"/>
              <a:ext cx="5333760" cy="1143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NSAYO DE LABORATORIO EN U.N.L.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B-unlp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77240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4724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TALLES EXPERIMENTALES</a:t>
            </a:r>
            <a:br>
              <a:rPr sz="2800"/>
            </a:b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oma de muest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tomas-alabe" descr=""/>
          <p:cNvPicPr/>
          <p:nvPr/>
        </p:nvPicPr>
        <p:blipFill>
          <a:blip r:embed="rId1"/>
          <a:stretch/>
        </p:blipFill>
        <p:spPr>
          <a:xfrm>
            <a:off x="4952880" y="149400"/>
            <a:ext cx="4145040" cy="3431880"/>
          </a:xfrm>
          <a:prstGeom prst="rect">
            <a:avLst/>
          </a:prstGeom>
          <a:ln w="0">
            <a:noFill/>
          </a:ln>
        </p:spPr>
      </p:pic>
      <p:pic>
        <p:nvPicPr>
          <p:cNvPr id="323" name="tomas-tapa_90" descr=""/>
          <p:cNvPicPr/>
          <p:nvPr/>
        </p:nvPicPr>
        <p:blipFill>
          <a:blip r:embed="rId2"/>
          <a:stretch/>
        </p:blipFill>
        <p:spPr>
          <a:xfrm>
            <a:off x="0" y="2847960"/>
            <a:ext cx="586728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EDICIONES EXPERIMENTALE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ISTRIBUCION DE PRESIONES.</a:t>
            </a:r>
            <a:br>
              <a:rPr sz="2800"/>
            </a:b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gulador al 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distri-exp_90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010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NÁLISIS DE SIMILARIDAD EN TURBOMÁ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5029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ámetro del rodete (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ncho del rodete 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úmero de revoluciones (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otencia generada 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99280" y="11574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AME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838080" y="4724280"/>
                <a:ext cx="32004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834480" y="4114800"/>
            <a:ext cx="646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NUMERO ESPECIFICO Y CAUDAL A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762120" y="5638680"/>
                <a:ext cx="29718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876920" y="5791320"/>
                <a:ext cx="20574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NÁLISIS DE SIMILA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7208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5956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862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267080" y="762120"/>
            <a:ext cx="4191120" cy="37162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535320" y="1141560"/>
            <a:ext cx="3498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BINA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=0.02182 m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10.09 m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2800" y="2208240"/>
            <a:ext cx="3105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BINA SIMUL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=0.05 m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s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1484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609480" y="3732120"/>
                <a:ext cx="327672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611640" y="3198960"/>
            <a:ext cx="26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ALA LONG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990720" y="4724280"/>
                <a:ext cx="59436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182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5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9</m:t>
                            </m:r>
                            <m:r>
                              <m:t xml:space="preserve">m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5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143000" y="5783400"/>
                <a:ext cx="571500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D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5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p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454</m:t>
                                </m:r>
                                <m:r>
                                  <m:t xml:space="preserve">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449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ARACTERISTICAS GENERALES  DE UNA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URBINA MICHELL-BAN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urbina de flujo transversal ubicada entre las de acción y aquellas de reacción, de doble efecto (70%-3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sencillo y fácil constr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plicada en aprovechamientos hidroeléctricos de pequeña esca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ualmente se la está aplicando en aprovechamientos de gran escala, de hasta 6 M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ro especifico entre 18 y 60 según el caudal y 51 y 175 én 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mplio rango de velocidad de g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ámetro de la turbina es independiente del cau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ptable rendimiento del orden del 7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gulación de caudal y potencia mediante un álabe ajustable en el iny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urbina1" descr=""/>
          <p:cNvPicPr/>
          <p:nvPr/>
        </p:nvPicPr>
        <p:blipFill>
          <a:blip r:embed="rId1"/>
          <a:stretch/>
        </p:blipFill>
        <p:spPr>
          <a:xfrm>
            <a:off x="76320" y="3581280"/>
            <a:ext cx="5105160" cy="3251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403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LEMENTOS DE UNA INSTALACION DE UNA TURBINA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MICHELL-BAN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800600" y="609480"/>
            <a:ext cx="4343040" cy="6248520"/>
            <a:chOff x="4800600" y="609480"/>
            <a:chExt cx="4343040" cy="6248520"/>
          </a:xfrm>
        </p:grpSpPr>
        <p:graphicFrame>
          <p:nvGraphicFramePr>
            <p:cNvPr id="54" name=""/>
            <p:cNvGraphicFramePr/>
            <p:nvPr/>
          </p:nvGraphicFramePr>
          <p:xfrm>
            <a:off x="4800600" y="609480"/>
            <a:ext cx="4333680" cy="6248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800600" y="609480"/>
                      <a:ext cx="4333680" cy="624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"/>
            <p:cNvSpPr/>
            <p:nvPr/>
          </p:nvSpPr>
          <p:spPr>
            <a:xfrm>
              <a:off x="4809960" y="6171840"/>
              <a:ext cx="4333680" cy="5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igura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53720" y="1752480"/>
            <a:ext cx="497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jorar el rendimiento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vés de un diseño asistido por C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NALISIS DE UNA TURBINA DE FLUJO TRANSVERSAL 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EDIANTE TEORIA DE TURBINA DE A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09680" y="2281320"/>
            <a:ext cx="5105520" cy="1085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581280" y="4952880"/>
            <a:ext cx="3353040" cy="812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9680" y="175248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cuación de Euler para turbomáqu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33600" y="1066680"/>
            <a:ext cx="41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pla en el eje = Altura rotó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6480" y="243828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u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tór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0160" y="3581280"/>
            <a:ext cx="227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to de Energí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n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0" y="3962520"/>
            <a:ext cx="263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to de presión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erza centríf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02440" y="3276720"/>
            <a:ext cx="294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to de presión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ción de 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676520" y="28951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95480" y="2971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4800240" y="312408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6400800" y="281952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41972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13000" y="5867280"/>
            <a:ext cx="65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ura rotórica = Energía cinética + Energía 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URBINA DE FLUJO TRANSVERSAL COMO TURBINA DE A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3352680"/>
            <a:ext cx="3105000" cy="1781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0" y="1143000"/>
            <a:ext cx="1676520" cy="923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286000" y="3505320"/>
            <a:ext cx="982800" cy="919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61760" y="137160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rado de re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3200" y="2438280"/>
            <a:ext cx="25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urbina de 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1280" y="25146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680" y="2438280"/>
            <a:ext cx="10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r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25146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35760" y="243828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1=p2=p=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3886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ISEÑO HIDRAU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2666880" cy="484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1295280" cy="911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28600" y="3124080"/>
            <a:ext cx="3886200" cy="3465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42280" y="2057400"/>
            <a:ext cx="30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eficiente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elocidad del iny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2743200" y="152352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190400" y="457200"/>
            <a:ext cx="4572360" cy="5943600"/>
            <a:chOff x="4190400" y="457200"/>
            <a:chExt cx="4572360" cy="5943600"/>
          </a:xfrm>
        </p:grpSpPr>
        <p:sp>
          <p:nvSpPr>
            <p:cNvPr id="90" name=""/>
            <p:cNvSpPr/>
            <p:nvPr/>
          </p:nvSpPr>
          <p:spPr>
            <a:xfrm>
              <a:off x="7662600" y="3875400"/>
              <a:ext cx="62280" cy="81000"/>
            </a:xfrm>
            <a:custGeom>
              <a:avLst/>
              <a:gdLst/>
              <a:ahLst/>
              <a:rect l="l" t="t" r="r" b="b"/>
              <a:pathLst>
                <a:path w="337" h="421">
                  <a:moveTo>
                    <a:pt x="0" y="421"/>
                  </a:moveTo>
                  <a:lnTo>
                    <a:pt x="335" y="0"/>
                  </a:lnTo>
                  <a:lnTo>
                    <a:pt x="33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1520" y="3919680"/>
              <a:ext cx="96840" cy="429840"/>
            </a:xfrm>
            <a:custGeom>
              <a:avLst/>
              <a:gdLst/>
              <a:ahLst/>
              <a:rect l="l" t="t" r="r" b="b"/>
              <a:pathLst>
                <a:path w="522" h="2248">
                  <a:moveTo>
                    <a:pt x="522" y="2248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47880" y="3882960"/>
              <a:ext cx="23760" cy="74880"/>
            </a:xfrm>
            <a:custGeom>
              <a:avLst/>
              <a:gdLst/>
              <a:ahLst/>
              <a:rect l="l" t="t" r="r" b="b"/>
              <a:pathLst>
                <a:path w="129" h="391">
                  <a:moveTo>
                    <a:pt x="0" y="391"/>
                  </a:moveTo>
                  <a:lnTo>
                    <a:pt x="129" y="383"/>
                  </a:lnTo>
                  <a:lnTo>
                    <a:pt x="40" y="0"/>
                  </a:lnTo>
                  <a:lnTo>
                    <a:pt x="0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90400" y="381168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47880" y="3882960"/>
              <a:ext cx="23760" cy="74880"/>
            </a:xfrm>
            <a:custGeom>
              <a:avLst/>
              <a:gdLst/>
              <a:ahLst/>
              <a:rect l="l" t="t" r="r" b="b"/>
              <a:pathLst>
                <a:path w="129" h="391">
                  <a:moveTo>
                    <a:pt x="0" y="391"/>
                  </a:moveTo>
                  <a:lnTo>
                    <a:pt x="129" y="383"/>
                  </a:lnTo>
                  <a:lnTo>
                    <a:pt x="40" y="0"/>
                  </a:lnTo>
                  <a:lnTo>
                    <a:pt x="0" y="3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45680" y="3895200"/>
              <a:ext cx="2705400" cy="75600"/>
            </a:xfrm>
            <a:custGeom>
              <a:avLst/>
              <a:gdLst/>
              <a:ahLst/>
              <a:rect l="l" t="t" r="r" b="b"/>
              <a:pathLst>
                <a:path w="14526" h="392">
                  <a:moveTo>
                    <a:pt x="0" y="0"/>
                  </a:moveTo>
                  <a:lnTo>
                    <a:pt x="14525" y="392"/>
                  </a:lnTo>
                  <a:lnTo>
                    <a:pt x="14526" y="3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80120" y="3877560"/>
              <a:ext cx="531720" cy="1148040"/>
            </a:xfrm>
            <a:custGeom>
              <a:avLst/>
              <a:gdLst/>
              <a:ahLst/>
              <a:rect l="l" t="t" r="r" b="b"/>
              <a:pathLst>
                <a:path w="2857" h="6003">
                  <a:moveTo>
                    <a:pt x="2857" y="600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12200" y="3895200"/>
              <a:ext cx="33480" cy="1130400"/>
            </a:xfrm>
            <a:custGeom>
              <a:avLst/>
              <a:gdLst/>
              <a:ahLst/>
              <a:rect l="l" t="t" r="r" b="b"/>
              <a:pathLst>
                <a:path w="179" h="5911">
                  <a:moveTo>
                    <a:pt x="179" y="0"/>
                  </a:moveTo>
                  <a:lnTo>
                    <a:pt x="0" y="5911"/>
                  </a:lnTo>
                  <a:lnTo>
                    <a:pt x="2" y="59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62680" y="2191320"/>
              <a:ext cx="1688400" cy="2176560"/>
            </a:xfrm>
            <a:custGeom>
              <a:avLst/>
              <a:gdLst/>
              <a:ahLst/>
              <a:rect l="l" t="t" r="r" b="b"/>
              <a:pathLst>
                <a:path w="9065" h="11379">
                  <a:moveTo>
                    <a:pt x="0" y="11379"/>
                  </a:moveTo>
                  <a:lnTo>
                    <a:pt x="9064" y="0"/>
                  </a:lnTo>
                  <a:lnTo>
                    <a:pt x="906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5680" y="3895200"/>
              <a:ext cx="1017000" cy="497160"/>
            </a:xfrm>
            <a:custGeom>
              <a:avLst/>
              <a:gdLst/>
              <a:ahLst/>
              <a:rect l="l" t="t" r="r" b="b"/>
              <a:pathLst>
                <a:path w="5462" h="2598">
                  <a:moveTo>
                    <a:pt x="0" y="0"/>
                  </a:moveTo>
                  <a:lnTo>
                    <a:pt x="750" y="1043"/>
                  </a:lnTo>
                  <a:lnTo>
                    <a:pt x="1745" y="1858"/>
                  </a:lnTo>
                  <a:lnTo>
                    <a:pt x="2915" y="2387"/>
                  </a:lnTo>
                  <a:lnTo>
                    <a:pt x="4183" y="2598"/>
                  </a:lnTo>
                  <a:lnTo>
                    <a:pt x="5461" y="2474"/>
                  </a:lnTo>
                  <a:lnTo>
                    <a:pt x="5462" y="2474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51440" y="573840"/>
              <a:ext cx="360" cy="432000"/>
            </a:xfrm>
            <a:custGeom>
              <a:avLst/>
              <a:gdLst/>
              <a:ahLst/>
              <a:rect l="l" t="t" r="r" b="b"/>
              <a:pathLst>
                <a:path w="1" h="2258">
                  <a:moveTo>
                    <a:pt x="0" y="0"/>
                  </a:moveTo>
                  <a:lnTo>
                    <a:pt x="0" y="2258"/>
                  </a:lnTo>
                  <a:lnTo>
                    <a:pt x="1" y="2258"/>
                  </a:lnTo>
                </a:path>
              </a:pathLst>
            </a:custGeom>
            <a:noFill/>
            <a:ln w="12600">
              <a:solidFill>
                <a:srgbClr val="5d5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51440" y="1059840"/>
              <a:ext cx="360" cy="106200"/>
            </a:xfrm>
            <a:custGeom>
              <a:avLst/>
              <a:gdLst/>
              <a:ahLst/>
              <a:rect l="l" t="t" r="r" b="b"/>
              <a:pathLst>
                <a:path w="1" h="558">
                  <a:moveTo>
                    <a:pt x="0" y="0"/>
                  </a:moveTo>
                  <a:lnTo>
                    <a:pt x="0" y="558"/>
                  </a:lnTo>
                  <a:lnTo>
                    <a:pt x="1" y="558"/>
                  </a:lnTo>
                </a:path>
              </a:pathLst>
            </a:custGeom>
            <a:noFill/>
            <a:ln w="12600">
              <a:solidFill>
                <a:srgbClr val="5d5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51440" y="1219680"/>
              <a:ext cx="360" cy="426960"/>
            </a:xfrm>
            <a:custGeom>
              <a:avLst/>
              <a:gdLst/>
              <a:ahLst/>
              <a:rect l="l" t="t" r="r" b="b"/>
              <a:pathLst>
                <a:path w="1" h="2232">
                  <a:moveTo>
                    <a:pt x="0" y="0"/>
                  </a:moveTo>
                  <a:lnTo>
                    <a:pt x="0" y="2232"/>
                  </a:lnTo>
                  <a:lnTo>
                    <a:pt x="1" y="2232"/>
                  </a:lnTo>
                </a:path>
              </a:pathLst>
            </a:custGeom>
            <a:noFill/>
            <a:ln w="12600">
              <a:solidFill>
                <a:srgbClr val="5d5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51440" y="1700280"/>
              <a:ext cx="360" cy="106920"/>
            </a:xfrm>
            <a:custGeom>
              <a:avLst/>
              <a:gdLst/>
              <a:ahLst/>
              <a:rect l="l" t="t" r="r" b="b"/>
              <a:pathLst>
                <a:path w="1" h="558">
                  <a:moveTo>
                    <a:pt x="0" y="0"/>
                  </a:moveTo>
                  <a:lnTo>
                    <a:pt x="0" y="558"/>
                  </a:lnTo>
                  <a:lnTo>
                    <a:pt x="1" y="558"/>
                  </a:lnTo>
                </a:path>
              </a:pathLst>
            </a:custGeom>
            <a:noFill/>
            <a:ln w="12600">
              <a:solidFill>
                <a:srgbClr val="5d5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51440" y="1860120"/>
              <a:ext cx="360" cy="426960"/>
            </a:xfrm>
            <a:custGeom>
              <a:avLst/>
              <a:gdLst/>
              <a:ahLst/>
              <a:rect l="l" t="t" r="r" b="b"/>
              <a:pathLst>
                <a:path w="1" h="2232">
                  <a:moveTo>
                    <a:pt x="0" y="0"/>
                  </a:moveTo>
                  <a:lnTo>
                    <a:pt x="0" y="2232"/>
                  </a:lnTo>
                  <a:lnTo>
                    <a:pt x="1" y="2232"/>
                  </a:lnTo>
                </a:path>
              </a:pathLst>
            </a:custGeom>
            <a:noFill/>
            <a:ln w="12600">
              <a:solidFill>
                <a:srgbClr val="5d5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51440" y="2340360"/>
              <a:ext cx="360" cy="106920"/>
            </a:xfrm>
            <a:custGeom>
              <a:avLst/>
              <a:gdLst/>
              <a:ahLst/>
              <a:rect l="l" t="t" r="r" b="b"/>
              <a:pathLst>
                <a:path w="1" h="557">
                  <a:moveTo>
                    <a:pt x="0" y="0"/>
                  </a:moveTo>
                  <a:lnTo>
                    <a:pt x="0" y="557"/>
                  </a:lnTo>
                  <a:lnTo>
                    <a:pt x="1" y="557"/>
                  </a:lnTo>
                </a:path>
              </a:pathLst>
            </a:custGeom>
            <a:noFill/>
            <a:ln w="12600">
              <a:solidFill>
                <a:srgbClr val="5d5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51440" y="2500560"/>
              <a:ext cx="360" cy="426960"/>
            </a:xfrm>
            <a:custGeom>
              <a:avLst/>
              <a:gdLst/>
              <a:ahLst/>
              <a:rect l="l" t="t" r="r" b="b"/>
              <a:pathLst>
                <a:path w="1" h="2232">
                  <a:moveTo>
                    <a:pt x="0" y="0"/>
                  </a:moveTo>
                  <a:lnTo>
                    <a:pt x="0" y="2232"/>
                  </a:lnTo>
                  <a:lnTo>
                    <a:pt x="1" y="2232"/>
                  </a:lnTo>
                </a:path>
              </a:pathLst>
            </a:custGeom>
            <a:noFill/>
            <a:ln w="12600">
              <a:solidFill>
                <a:srgbClr val="5d5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51440" y="2980800"/>
              <a:ext cx="360" cy="106920"/>
            </a:xfrm>
            <a:custGeom>
              <a:avLst/>
              <a:gdLst/>
              <a:ahLst/>
              <a:rect l="l" t="t" r="r" b="b"/>
              <a:pathLst>
                <a:path w="1" h="558">
                  <a:moveTo>
                    <a:pt x="0" y="0"/>
                  </a:moveTo>
                  <a:lnTo>
                    <a:pt x="0" y="558"/>
                  </a:lnTo>
                  <a:lnTo>
                    <a:pt x="1" y="558"/>
                  </a:lnTo>
                </a:path>
              </a:pathLst>
            </a:custGeom>
            <a:noFill/>
            <a:ln w="12600">
              <a:solidFill>
                <a:srgbClr val="5d5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51440" y="3141360"/>
              <a:ext cx="360" cy="426960"/>
            </a:xfrm>
            <a:custGeom>
              <a:avLst/>
              <a:gdLst/>
              <a:ahLst/>
              <a:rect l="l" t="t" r="r" b="b"/>
              <a:pathLst>
                <a:path w="1" h="2232">
                  <a:moveTo>
                    <a:pt x="0" y="0"/>
                  </a:moveTo>
                  <a:lnTo>
                    <a:pt x="0" y="2232"/>
                  </a:lnTo>
                  <a:lnTo>
                    <a:pt x="1" y="2232"/>
                  </a:lnTo>
                </a:path>
              </a:pathLst>
            </a:custGeom>
            <a:noFill/>
            <a:ln w="12600">
              <a:solidFill>
                <a:srgbClr val="5d5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51440" y="3621240"/>
              <a:ext cx="360" cy="106920"/>
            </a:xfrm>
            <a:custGeom>
              <a:avLst/>
              <a:gdLst/>
              <a:ahLst/>
              <a:rect l="l" t="t" r="r" b="b"/>
              <a:pathLst>
                <a:path w="1" h="557">
                  <a:moveTo>
                    <a:pt x="0" y="0"/>
                  </a:moveTo>
                  <a:lnTo>
                    <a:pt x="0" y="557"/>
                  </a:lnTo>
                  <a:lnTo>
                    <a:pt x="1" y="557"/>
                  </a:lnTo>
                </a:path>
              </a:pathLst>
            </a:custGeom>
            <a:noFill/>
            <a:ln w="12600">
              <a:solidFill>
                <a:srgbClr val="5d5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51440" y="3781800"/>
              <a:ext cx="360" cy="426960"/>
            </a:xfrm>
            <a:custGeom>
              <a:avLst/>
              <a:gdLst/>
              <a:ahLst/>
              <a:rect l="l" t="t" r="r" b="b"/>
              <a:pathLst>
                <a:path w="1" h="2233">
                  <a:moveTo>
                    <a:pt x="0" y="0"/>
                  </a:moveTo>
                  <a:lnTo>
                    <a:pt x="0" y="2233"/>
                  </a:lnTo>
                  <a:lnTo>
                    <a:pt x="1" y="2233"/>
                  </a:lnTo>
                </a:path>
              </a:pathLst>
            </a:custGeom>
            <a:noFill/>
            <a:ln w="12600">
              <a:solidFill>
                <a:srgbClr val="5d5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51440" y="4262400"/>
              <a:ext cx="360" cy="106200"/>
            </a:xfrm>
            <a:custGeom>
              <a:avLst/>
              <a:gdLst/>
              <a:ahLst/>
              <a:rect l="l" t="t" r="r" b="b"/>
              <a:pathLst>
                <a:path w="1" h="559">
                  <a:moveTo>
                    <a:pt x="0" y="0"/>
                  </a:moveTo>
                  <a:lnTo>
                    <a:pt x="0" y="559"/>
                  </a:lnTo>
                  <a:lnTo>
                    <a:pt x="1" y="559"/>
                  </a:lnTo>
                </a:path>
              </a:pathLst>
            </a:custGeom>
            <a:noFill/>
            <a:ln w="12600">
              <a:solidFill>
                <a:srgbClr val="5d5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51440" y="4422240"/>
              <a:ext cx="360" cy="426960"/>
            </a:xfrm>
            <a:custGeom>
              <a:avLst/>
              <a:gdLst/>
              <a:ahLst/>
              <a:rect l="l" t="t" r="r" b="b"/>
              <a:pathLst>
                <a:path w="1" h="2233">
                  <a:moveTo>
                    <a:pt x="0" y="0"/>
                  </a:moveTo>
                  <a:lnTo>
                    <a:pt x="0" y="2233"/>
                  </a:lnTo>
                  <a:lnTo>
                    <a:pt x="1" y="2233"/>
                  </a:lnTo>
                </a:path>
              </a:pathLst>
            </a:custGeom>
            <a:noFill/>
            <a:ln w="12600">
              <a:solidFill>
                <a:srgbClr val="5d5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51440" y="4902840"/>
              <a:ext cx="360" cy="106200"/>
            </a:xfrm>
            <a:custGeom>
              <a:avLst/>
              <a:gdLst/>
              <a:ahLst/>
              <a:rect l="l" t="t" r="r" b="b"/>
              <a:pathLst>
                <a:path w="1" h="559">
                  <a:moveTo>
                    <a:pt x="0" y="0"/>
                  </a:moveTo>
                  <a:lnTo>
                    <a:pt x="0" y="559"/>
                  </a:lnTo>
                  <a:lnTo>
                    <a:pt x="1" y="559"/>
                  </a:lnTo>
                </a:path>
              </a:pathLst>
            </a:custGeom>
            <a:noFill/>
            <a:ln w="12600">
              <a:solidFill>
                <a:srgbClr val="5d5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51440" y="5062680"/>
              <a:ext cx="360" cy="432000"/>
            </a:xfrm>
            <a:custGeom>
              <a:avLst/>
              <a:gdLst/>
              <a:ahLst/>
              <a:rect l="l" t="t" r="r" b="b"/>
              <a:pathLst>
                <a:path w="1" h="2260">
                  <a:moveTo>
                    <a:pt x="0" y="0"/>
                  </a:moveTo>
                  <a:lnTo>
                    <a:pt x="0" y="2260"/>
                  </a:lnTo>
                  <a:lnTo>
                    <a:pt x="1" y="2260"/>
                  </a:lnTo>
                </a:path>
              </a:pathLst>
            </a:custGeom>
            <a:noFill/>
            <a:ln w="12600">
              <a:solidFill>
                <a:srgbClr val="5d5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19480" y="2192760"/>
              <a:ext cx="2667600" cy="3525120"/>
            </a:xfrm>
            <a:custGeom>
              <a:avLst/>
              <a:gdLst/>
              <a:ahLst/>
              <a:rect l="l" t="t" r="r" b="b"/>
              <a:pathLst>
                <a:path w="14319" h="18431">
                  <a:moveTo>
                    <a:pt x="14319" y="1465"/>
                  </a:moveTo>
                  <a:lnTo>
                    <a:pt x="12870" y="707"/>
                  </a:lnTo>
                  <a:lnTo>
                    <a:pt x="11310" y="213"/>
                  </a:lnTo>
                  <a:lnTo>
                    <a:pt x="9687" y="0"/>
                  </a:lnTo>
                  <a:lnTo>
                    <a:pt x="8051" y="76"/>
                  </a:lnTo>
                  <a:lnTo>
                    <a:pt x="6456" y="436"/>
                  </a:lnTo>
                  <a:lnTo>
                    <a:pt x="4948" y="1071"/>
                  </a:lnTo>
                  <a:lnTo>
                    <a:pt x="3574" y="1960"/>
                  </a:lnTo>
                  <a:lnTo>
                    <a:pt x="2377" y="3078"/>
                  </a:lnTo>
                  <a:lnTo>
                    <a:pt x="1395" y="4386"/>
                  </a:lnTo>
                  <a:lnTo>
                    <a:pt x="658" y="5848"/>
                  </a:lnTo>
                  <a:lnTo>
                    <a:pt x="188" y="7417"/>
                  </a:lnTo>
                  <a:lnTo>
                    <a:pt x="0" y="9042"/>
                  </a:lnTo>
                  <a:lnTo>
                    <a:pt x="100" y="10676"/>
                  </a:lnTo>
                  <a:lnTo>
                    <a:pt x="485" y="12268"/>
                  </a:lnTo>
                  <a:lnTo>
                    <a:pt x="1142" y="13766"/>
                  </a:lnTo>
                  <a:lnTo>
                    <a:pt x="2053" y="15126"/>
                  </a:lnTo>
                  <a:lnTo>
                    <a:pt x="3187" y="16306"/>
                  </a:lnTo>
                  <a:lnTo>
                    <a:pt x="4511" y="17269"/>
                  </a:lnTo>
                  <a:lnTo>
                    <a:pt x="5982" y="17984"/>
                  </a:lnTo>
                  <a:lnTo>
                    <a:pt x="7556" y="18431"/>
                  </a:lnTo>
                  <a:lnTo>
                    <a:pt x="7558" y="18431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48560" y="1193760"/>
              <a:ext cx="3722400" cy="5207040"/>
            </a:xfrm>
            <a:custGeom>
              <a:avLst/>
              <a:gdLst/>
              <a:ahLst/>
              <a:rect l="l" t="t" r="r" b="b"/>
              <a:pathLst>
                <a:path w="19981" h="27225">
                  <a:moveTo>
                    <a:pt x="19981" y="1057"/>
                  </a:moveTo>
                  <a:lnTo>
                    <a:pt x="17995" y="410"/>
                  </a:lnTo>
                  <a:lnTo>
                    <a:pt x="15938" y="56"/>
                  </a:lnTo>
                  <a:lnTo>
                    <a:pt x="13849" y="0"/>
                  </a:lnTo>
                  <a:lnTo>
                    <a:pt x="11774" y="244"/>
                  </a:lnTo>
                  <a:lnTo>
                    <a:pt x="9757" y="783"/>
                  </a:lnTo>
                  <a:lnTo>
                    <a:pt x="7837" y="1606"/>
                  </a:lnTo>
                  <a:lnTo>
                    <a:pt x="6055" y="2696"/>
                  </a:lnTo>
                  <a:lnTo>
                    <a:pt x="4449" y="4030"/>
                  </a:lnTo>
                  <a:lnTo>
                    <a:pt x="3048" y="5580"/>
                  </a:lnTo>
                  <a:lnTo>
                    <a:pt x="1886" y="7316"/>
                  </a:lnTo>
                  <a:lnTo>
                    <a:pt x="984" y="9200"/>
                  </a:lnTo>
                  <a:lnTo>
                    <a:pt x="361" y="11195"/>
                  </a:lnTo>
                  <a:lnTo>
                    <a:pt x="31" y="13258"/>
                  </a:lnTo>
                  <a:lnTo>
                    <a:pt x="0" y="15346"/>
                  </a:lnTo>
                  <a:lnTo>
                    <a:pt x="269" y="17418"/>
                  </a:lnTo>
                  <a:lnTo>
                    <a:pt x="832" y="19431"/>
                  </a:lnTo>
                  <a:lnTo>
                    <a:pt x="1677" y="21340"/>
                  </a:lnTo>
                  <a:lnTo>
                    <a:pt x="2788" y="23110"/>
                  </a:lnTo>
                  <a:lnTo>
                    <a:pt x="4140" y="24702"/>
                  </a:lnTo>
                  <a:lnTo>
                    <a:pt x="5708" y="26084"/>
                  </a:lnTo>
                  <a:lnTo>
                    <a:pt x="7455" y="27225"/>
                  </a:lnTo>
                  <a:lnTo>
                    <a:pt x="7457" y="27225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47200" y="4957200"/>
              <a:ext cx="148680" cy="15120"/>
            </a:xfrm>
            <a:custGeom>
              <a:avLst/>
              <a:gdLst/>
              <a:ahLst/>
              <a:rect l="l" t="t" r="r" b="b"/>
              <a:pathLst>
                <a:path w="799" h="80">
                  <a:moveTo>
                    <a:pt x="0" y="80"/>
                  </a:moveTo>
                  <a:lnTo>
                    <a:pt x="798" y="0"/>
                  </a:lnTo>
                  <a:lnTo>
                    <a:pt x="79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24160" y="3970800"/>
              <a:ext cx="1727280" cy="406080"/>
            </a:xfrm>
            <a:custGeom>
              <a:avLst/>
              <a:gdLst/>
              <a:ahLst/>
              <a:rect l="l" t="t" r="r" b="b"/>
              <a:pathLst>
                <a:path w="9273" h="2126">
                  <a:moveTo>
                    <a:pt x="0" y="2126"/>
                  </a:moveTo>
                  <a:lnTo>
                    <a:pt x="9272" y="0"/>
                  </a:lnTo>
                  <a:lnTo>
                    <a:pt x="927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62680" y="4367880"/>
              <a:ext cx="199440" cy="884160"/>
            </a:xfrm>
            <a:custGeom>
              <a:avLst/>
              <a:gdLst/>
              <a:ahLst/>
              <a:rect l="l" t="t" r="r" b="b"/>
              <a:pathLst>
                <a:path w="1073" h="4625">
                  <a:moveTo>
                    <a:pt x="1073" y="462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76320" y="5252400"/>
              <a:ext cx="686160" cy="163440"/>
            </a:xfrm>
            <a:custGeom>
              <a:avLst/>
              <a:gdLst/>
              <a:ahLst/>
              <a:rect l="l" t="t" r="r" b="b"/>
              <a:pathLst>
                <a:path w="3683" h="855">
                  <a:moveTo>
                    <a:pt x="3683" y="0"/>
                  </a:moveTo>
                  <a:lnTo>
                    <a:pt x="0" y="855"/>
                  </a:lnTo>
                  <a:lnTo>
                    <a:pt x="1" y="85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3280" y="3970800"/>
              <a:ext cx="250920" cy="720"/>
            </a:xfrm>
            <a:custGeom>
              <a:avLst/>
              <a:gdLst/>
              <a:ahLst/>
              <a:rect l="l" t="t" r="r" b="b"/>
              <a:pathLst>
                <a:path w="1345" h="0">
                  <a:moveTo>
                    <a:pt x="0" y="0"/>
                  </a:moveTo>
                  <a:lnTo>
                    <a:pt x="1344" y="0"/>
                  </a:lnTo>
                  <a:lnTo>
                    <a:pt x="1345" y="0"/>
                  </a:lnTo>
                </a:path>
              </a:pathLst>
            </a:custGeom>
            <a:noFill/>
            <a:ln w="12600">
              <a:solidFill>
                <a:srgbClr val="5d5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45680" y="3970800"/>
              <a:ext cx="104040" cy="720"/>
            </a:xfrm>
            <a:custGeom>
              <a:avLst/>
              <a:gdLst/>
              <a:ahLst/>
              <a:rect l="l" t="t" r="r" b="b"/>
              <a:pathLst>
                <a:path w="559" h="0">
                  <a:moveTo>
                    <a:pt x="0" y="0"/>
                  </a:moveTo>
                  <a:lnTo>
                    <a:pt x="558" y="0"/>
                  </a:lnTo>
                  <a:lnTo>
                    <a:pt x="559" y="0"/>
                  </a:lnTo>
                </a:path>
              </a:pathLst>
            </a:custGeom>
            <a:noFill/>
            <a:ln w="12600">
              <a:solidFill>
                <a:srgbClr val="5d5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01560" y="3970800"/>
              <a:ext cx="416520" cy="720"/>
            </a:xfrm>
            <a:custGeom>
              <a:avLst/>
              <a:gdLst/>
              <a:ahLst/>
              <a:rect l="l" t="t" r="r" b="b"/>
              <a:pathLst>
                <a:path w="2234" h="0">
                  <a:moveTo>
                    <a:pt x="0" y="0"/>
                  </a:moveTo>
                  <a:lnTo>
                    <a:pt x="2232" y="0"/>
                  </a:lnTo>
                  <a:lnTo>
                    <a:pt x="2234" y="0"/>
                  </a:lnTo>
                </a:path>
              </a:pathLst>
            </a:custGeom>
            <a:noFill/>
            <a:ln w="12600">
              <a:solidFill>
                <a:srgbClr val="5d5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69560" y="3970800"/>
              <a:ext cx="104040" cy="720"/>
            </a:xfrm>
            <a:custGeom>
              <a:avLst/>
              <a:gdLst/>
              <a:ahLst/>
              <a:rect l="l" t="t" r="r" b="b"/>
              <a:pathLst>
                <a:path w="560" h="0">
                  <a:moveTo>
                    <a:pt x="0" y="0"/>
                  </a:moveTo>
                  <a:lnTo>
                    <a:pt x="559" y="0"/>
                  </a:lnTo>
                  <a:lnTo>
                    <a:pt x="560" y="0"/>
                  </a:lnTo>
                </a:path>
              </a:pathLst>
            </a:custGeom>
            <a:noFill/>
            <a:ln w="12600">
              <a:solidFill>
                <a:srgbClr val="5d5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25080" y="3970800"/>
              <a:ext cx="416520" cy="720"/>
            </a:xfrm>
            <a:custGeom>
              <a:avLst/>
              <a:gdLst/>
              <a:ahLst/>
              <a:rect l="l" t="t" r="r" b="b"/>
              <a:pathLst>
                <a:path w="2233" h="0">
                  <a:moveTo>
                    <a:pt x="0" y="0"/>
                  </a:moveTo>
                  <a:lnTo>
                    <a:pt x="2232" y="0"/>
                  </a:lnTo>
                  <a:lnTo>
                    <a:pt x="2233" y="0"/>
                  </a:lnTo>
                </a:path>
              </a:pathLst>
            </a:custGeom>
            <a:noFill/>
            <a:ln w="12600">
              <a:solidFill>
                <a:srgbClr val="5d5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93080" y="3970800"/>
              <a:ext cx="104040" cy="720"/>
            </a:xfrm>
            <a:custGeom>
              <a:avLst/>
              <a:gdLst/>
              <a:ahLst/>
              <a:rect l="l" t="t" r="r" b="b"/>
              <a:pathLst>
                <a:path w="559" h="0">
                  <a:moveTo>
                    <a:pt x="0" y="0"/>
                  </a:moveTo>
                  <a:lnTo>
                    <a:pt x="558" y="0"/>
                  </a:lnTo>
                  <a:lnTo>
                    <a:pt x="559" y="0"/>
                  </a:lnTo>
                </a:path>
              </a:pathLst>
            </a:custGeom>
            <a:noFill/>
            <a:ln w="12600">
              <a:solidFill>
                <a:srgbClr val="5d5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48960" y="3970800"/>
              <a:ext cx="415800" cy="720"/>
            </a:xfrm>
            <a:custGeom>
              <a:avLst/>
              <a:gdLst/>
              <a:ahLst/>
              <a:rect l="l" t="t" r="r" b="b"/>
              <a:pathLst>
                <a:path w="2234" h="0">
                  <a:moveTo>
                    <a:pt x="0" y="0"/>
                  </a:moveTo>
                  <a:lnTo>
                    <a:pt x="2232" y="0"/>
                  </a:lnTo>
                  <a:lnTo>
                    <a:pt x="2234" y="0"/>
                  </a:lnTo>
                </a:path>
              </a:pathLst>
            </a:custGeom>
            <a:noFill/>
            <a:ln w="12600">
              <a:solidFill>
                <a:srgbClr val="5d5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16960" y="3970800"/>
              <a:ext cx="104040" cy="720"/>
            </a:xfrm>
            <a:custGeom>
              <a:avLst/>
              <a:gdLst/>
              <a:ahLst/>
              <a:rect l="l" t="t" r="r" b="b"/>
              <a:pathLst>
                <a:path w="559" h="0">
                  <a:moveTo>
                    <a:pt x="0" y="0"/>
                  </a:moveTo>
                  <a:lnTo>
                    <a:pt x="557" y="0"/>
                  </a:lnTo>
                  <a:lnTo>
                    <a:pt x="559" y="0"/>
                  </a:lnTo>
                </a:path>
              </a:pathLst>
            </a:custGeom>
            <a:noFill/>
            <a:ln w="12600">
              <a:solidFill>
                <a:srgbClr val="5d5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72480" y="3970800"/>
              <a:ext cx="415800" cy="720"/>
            </a:xfrm>
            <a:custGeom>
              <a:avLst/>
              <a:gdLst/>
              <a:ahLst/>
              <a:rect l="l" t="t" r="r" b="b"/>
              <a:pathLst>
                <a:path w="2233" h="0">
                  <a:moveTo>
                    <a:pt x="0" y="0"/>
                  </a:moveTo>
                  <a:lnTo>
                    <a:pt x="2232" y="0"/>
                  </a:lnTo>
                  <a:lnTo>
                    <a:pt x="2233" y="0"/>
                  </a:lnTo>
                </a:path>
              </a:pathLst>
            </a:custGeom>
            <a:noFill/>
            <a:ln w="12600">
              <a:solidFill>
                <a:srgbClr val="5d5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40480" y="3970800"/>
              <a:ext cx="104040" cy="720"/>
            </a:xfrm>
            <a:custGeom>
              <a:avLst/>
              <a:gdLst/>
              <a:ahLst/>
              <a:rect l="l" t="t" r="r" b="b"/>
              <a:pathLst>
                <a:path w="559" h="0">
                  <a:moveTo>
                    <a:pt x="0" y="0"/>
                  </a:moveTo>
                  <a:lnTo>
                    <a:pt x="558" y="0"/>
                  </a:lnTo>
                  <a:lnTo>
                    <a:pt x="559" y="0"/>
                  </a:lnTo>
                </a:path>
              </a:pathLst>
            </a:custGeom>
            <a:noFill/>
            <a:ln w="12600">
              <a:solidFill>
                <a:srgbClr val="5d5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96000" y="3970800"/>
              <a:ext cx="415800" cy="720"/>
            </a:xfrm>
            <a:custGeom>
              <a:avLst/>
              <a:gdLst/>
              <a:ahLst/>
              <a:rect l="l" t="t" r="r" b="b"/>
              <a:pathLst>
                <a:path w="2232" h="0">
                  <a:moveTo>
                    <a:pt x="0" y="0"/>
                  </a:moveTo>
                  <a:lnTo>
                    <a:pt x="2231" y="0"/>
                  </a:lnTo>
                  <a:lnTo>
                    <a:pt x="2232" y="0"/>
                  </a:lnTo>
                </a:path>
              </a:pathLst>
            </a:custGeom>
            <a:noFill/>
            <a:ln w="12600">
              <a:solidFill>
                <a:srgbClr val="5d5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64360" y="3970800"/>
              <a:ext cx="103320" cy="720"/>
            </a:xfrm>
            <a:custGeom>
              <a:avLst/>
              <a:gdLst/>
              <a:ahLst/>
              <a:rect l="l" t="t" r="r" b="b"/>
              <a:pathLst>
                <a:path w="559" h="0">
                  <a:moveTo>
                    <a:pt x="0" y="0"/>
                  </a:moveTo>
                  <a:lnTo>
                    <a:pt x="557" y="0"/>
                  </a:lnTo>
                  <a:lnTo>
                    <a:pt x="559" y="0"/>
                  </a:lnTo>
                </a:path>
              </a:pathLst>
            </a:custGeom>
            <a:noFill/>
            <a:ln w="12600">
              <a:solidFill>
                <a:srgbClr val="5d5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19880" y="3970800"/>
              <a:ext cx="250200" cy="720"/>
            </a:xfrm>
            <a:custGeom>
              <a:avLst/>
              <a:gdLst/>
              <a:ahLst/>
              <a:rect l="l" t="t" r="r" b="b"/>
              <a:pathLst>
                <a:path w="1345" h="0">
                  <a:moveTo>
                    <a:pt x="0" y="0"/>
                  </a:moveTo>
                  <a:lnTo>
                    <a:pt x="1344" y="0"/>
                  </a:lnTo>
                  <a:lnTo>
                    <a:pt x="1345" y="0"/>
                  </a:lnTo>
                </a:path>
              </a:pathLst>
            </a:custGeom>
            <a:noFill/>
            <a:ln w="12600">
              <a:solidFill>
                <a:srgbClr val="5d5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76520" y="4531680"/>
              <a:ext cx="199440" cy="884160"/>
            </a:xfrm>
            <a:custGeom>
              <a:avLst/>
              <a:gdLst/>
              <a:ahLst/>
              <a:rect l="l" t="t" r="r" b="b"/>
              <a:pathLst>
                <a:path w="1074" h="4624">
                  <a:moveTo>
                    <a:pt x="1074" y="462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21960" y="541152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65040" y="503208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U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13400" y="40896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73160" y="413064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76320" y="4367880"/>
              <a:ext cx="486360" cy="1047960"/>
            </a:xfrm>
            <a:custGeom>
              <a:avLst/>
              <a:gdLst/>
              <a:ahLst/>
              <a:rect l="l" t="t" r="r" b="b"/>
              <a:pathLst>
                <a:path w="2611" h="5480">
                  <a:moveTo>
                    <a:pt x="0" y="5480"/>
                  </a:moveTo>
                  <a:lnTo>
                    <a:pt x="2610" y="0"/>
                  </a:lnTo>
                  <a:lnTo>
                    <a:pt x="26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59760" y="3957120"/>
              <a:ext cx="58680" cy="157320"/>
            </a:xfrm>
            <a:custGeom>
              <a:avLst/>
              <a:gdLst/>
              <a:ahLst/>
              <a:rect l="l" t="t" r="r" b="b"/>
              <a:pathLst>
                <a:path w="319" h="824">
                  <a:moveTo>
                    <a:pt x="0" y="0"/>
                  </a:moveTo>
                  <a:lnTo>
                    <a:pt x="317" y="824"/>
                  </a:lnTo>
                  <a:lnTo>
                    <a:pt x="319" y="8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60720" y="4275360"/>
              <a:ext cx="72720" cy="24480"/>
            </a:xfrm>
            <a:custGeom>
              <a:avLst/>
              <a:gdLst/>
              <a:ahLst/>
              <a:rect l="l" t="t" r="r" b="b"/>
              <a:pathLst>
                <a:path w="392" h="128">
                  <a:moveTo>
                    <a:pt x="16" y="0"/>
                  </a:moveTo>
                  <a:lnTo>
                    <a:pt x="0" y="128"/>
                  </a:lnTo>
                  <a:lnTo>
                    <a:pt x="392" y="1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44240" y="4897440"/>
              <a:ext cx="57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13000" y="494028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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20560" y="505584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U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60720" y="4275360"/>
              <a:ext cx="72720" cy="24480"/>
            </a:xfrm>
            <a:custGeom>
              <a:avLst/>
              <a:gdLst/>
              <a:ahLst/>
              <a:rect l="l" t="t" r="r" b="b"/>
              <a:pathLst>
                <a:path w="392" h="128">
                  <a:moveTo>
                    <a:pt x="16" y="0"/>
                  </a:moveTo>
                  <a:lnTo>
                    <a:pt x="0" y="128"/>
                  </a:lnTo>
                  <a:lnTo>
                    <a:pt x="392" y="112"/>
                  </a:lnTo>
                  <a:lnTo>
                    <a:pt x="1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24280" y="4226400"/>
              <a:ext cx="137880" cy="61200"/>
            </a:xfrm>
            <a:custGeom>
              <a:avLst/>
              <a:gdLst/>
              <a:ahLst/>
              <a:rect l="l" t="t" r="r" b="b"/>
              <a:pathLst>
                <a:path w="743" h="320">
                  <a:moveTo>
                    <a:pt x="0" y="0"/>
                  </a:moveTo>
                  <a:lnTo>
                    <a:pt x="742" y="320"/>
                  </a:lnTo>
                  <a:lnTo>
                    <a:pt x="743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87920" y="4834800"/>
              <a:ext cx="57960" cy="43200"/>
            </a:xfrm>
            <a:custGeom>
              <a:avLst/>
              <a:gdLst/>
              <a:ahLst/>
              <a:rect l="l" t="t" r="r" b="b"/>
              <a:pathLst>
                <a:path w="315" h="228">
                  <a:moveTo>
                    <a:pt x="0" y="0"/>
                  </a:moveTo>
                  <a:lnTo>
                    <a:pt x="313" y="228"/>
                  </a:lnTo>
                  <a:lnTo>
                    <a:pt x="315" y="2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09600" y="4914360"/>
              <a:ext cx="136800" cy="46440"/>
            </a:xfrm>
            <a:custGeom>
              <a:avLst/>
              <a:gdLst/>
              <a:ahLst/>
              <a:rect l="l" t="t" r="r" b="b"/>
              <a:pathLst>
                <a:path w="737" h="245">
                  <a:moveTo>
                    <a:pt x="0" y="0"/>
                  </a:moveTo>
                  <a:lnTo>
                    <a:pt x="736" y="245"/>
                  </a:lnTo>
                  <a:lnTo>
                    <a:pt x="737" y="24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40120" y="4867560"/>
              <a:ext cx="69120" cy="46440"/>
            </a:xfrm>
            <a:custGeom>
              <a:avLst/>
              <a:gdLst/>
              <a:ahLst/>
              <a:rect l="l" t="t" r="r" b="b"/>
              <a:pathLst>
                <a:path w="370" h="243">
                  <a:moveTo>
                    <a:pt x="62" y="0"/>
                  </a:moveTo>
                  <a:lnTo>
                    <a:pt x="0" y="113"/>
                  </a:lnTo>
                  <a:lnTo>
                    <a:pt x="370" y="243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62720" y="40604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22480" y="410472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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0120" y="4867560"/>
              <a:ext cx="69120" cy="46440"/>
            </a:xfrm>
            <a:custGeom>
              <a:avLst/>
              <a:gdLst/>
              <a:ahLst/>
              <a:rect l="l" t="t" r="r" b="b"/>
              <a:pathLst>
                <a:path w="370" h="243">
                  <a:moveTo>
                    <a:pt x="62" y="0"/>
                  </a:moveTo>
                  <a:lnTo>
                    <a:pt x="0" y="113"/>
                  </a:lnTo>
                  <a:lnTo>
                    <a:pt x="370" y="243"/>
                  </a:lnTo>
                  <a:lnTo>
                    <a:pt x="6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76520" y="4367880"/>
              <a:ext cx="686160" cy="163440"/>
            </a:xfrm>
            <a:custGeom>
              <a:avLst/>
              <a:gdLst/>
              <a:ahLst/>
              <a:rect l="l" t="t" r="r" b="b"/>
              <a:pathLst>
                <a:path w="3684" h="856">
                  <a:moveTo>
                    <a:pt x="3684" y="0"/>
                  </a:moveTo>
                  <a:lnTo>
                    <a:pt x="0" y="856"/>
                  </a:lnTo>
                  <a:lnTo>
                    <a:pt x="1" y="8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06120" y="447984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W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51560" y="4199760"/>
              <a:ext cx="33120" cy="190440"/>
            </a:xfrm>
            <a:custGeom>
              <a:avLst/>
              <a:gdLst/>
              <a:ahLst/>
              <a:rect l="l" t="t" r="r" b="b"/>
              <a:pathLst>
                <a:path w="178" h="996">
                  <a:moveTo>
                    <a:pt x="178" y="0"/>
                  </a:moveTo>
                  <a:lnTo>
                    <a:pt x="0" y="996"/>
                  </a:lnTo>
                  <a:lnTo>
                    <a:pt x="1" y="9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39680" y="4388760"/>
              <a:ext cx="23760" cy="74880"/>
            </a:xfrm>
            <a:custGeom>
              <a:avLst/>
              <a:gdLst/>
              <a:ahLst/>
              <a:rect l="l" t="t" r="r" b="b"/>
              <a:pathLst>
                <a:path w="129" h="392">
                  <a:moveTo>
                    <a:pt x="129" y="0"/>
                  </a:moveTo>
                  <a:lnTo>
                    <a:pt x="0" y="17"/>
                  </a:lnTo>
                  <a:lnTo>
                    <a:pt x="118" y="392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39680" y="4388760"/>
              <a:ext cx="23760" cy="74880"/>
            </a:xfrm>
            <a:custGeom>
              <a:avLst/>
              <a:gdLst/>
              <a:ahLst/>
              <a:rect l="l" t="t" r="r" b="b"/>
              <a:pathLst>
                <a:path w="129" h="392">
                  <a:moveTo>
                    <a:pt x="129" y="0"/>
                  </a:moveTo>
                  <a:lnTo>
                    <a:pt x="0" y="17"/>
                  </a:lnTo>
                  <a:lnTo>
                    <a:pt x="118" y="392"/>
                  </a:lnTo>
                  <a:lnTo>
                    <a:pt x="12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97440" y="3956400"/>
              <a:ext cx="72000" cy="34200"/>
            </a:xfrm>
            <a:custGeom>
              <a:avLst/>
              <a:gdLst/>
              <a:ahLst/>
              <a:rect l="l" t="t" r="r" b="b"/>
              <a:pathLst>
                <a:path w="388" h="183">
                  <a:moveTo>
                    <a:pt x="0" y="59"/>
                  </a:moveTo>
                  <a:lnTo>
                    <a:pt x="41" y="183"/>
                  </a:lnTo>
                  <a:lnTo>
                    <a:pt x="388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97440" y="3956400"/>
              <a:ext cx="72000" cy="34200"/>
            </a:xfrm>
            <a:custGeom>
              <a:avLst/>
              <a:gdLst/>
              <a:ahLst/>
              <a:rect l="l" t="t" r="r" b="b"/>
              <a:pathLst>
                <a:path w="388" h="183">
                  <a:moveTo>
                    <a:pt x="0" y="59"/>
                  </a:moveTo>
                  <a:lnTo>
                    <a:pt x="41" y="183"/>
                  </a:lnTo>
                  <a:lnTo>
                    <a:pt x="388" y="0"/>
                  </a:lnTo>
                  <a:lnTo>
                    <a:pt x="0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53440" y="3979440"/>
              <a:ext cx="147240" cy="109080"/>
            </a:xfrm>
            <a:custGeom>
              <a:avLst/>
              <a:gdLst/>
              <a:ahLst/>
              <a:rect l="l" t="t" r="r" b="b"/>
              <a:pathLst>
                <a:path w="792" h="572">
                  <a:moveTo>
                    <a:pt x="792" y="0"/>
                  </a:moveTo>
                  <a:lnTo>
                    <a:pt x="0" y="572"/>
                  </a:lnTo>
                  <a:lnTo>
                    <a:pt x="1" y="5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64640" y="4906440"/>
              <a:ext cx="66960" cy="29520"/>
            </a:xfrm>
            <a:custGeom>
              <a:avLst/>
              <a:gdLst/>
              <a:ahLst/>
              <a:rect l="l" t="t" r="r" b="b"/>
              <a:pathLst>
                <a:path w="357" h="155">
                  <a:moveTo>
                    <a:pt x="0" y="155"/>
                  </a:moveTo>
                  <a:lnTo>
                    <a:pt x="355" y="0"/>
                  </a:lnTo>
                  <a:lnTo>
                    <a:pt x="35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96240" y="4924080"/>
              <a:ext cx="72000" cy="32760"/>
            </a:xfrm>
            <a:custGeom>
              <a:avLst/>
              <a:gdLst/>
              <a:ahLst/>
              <a:rect l="l" t="t" r="r" b="b"/>
              <a:pathLst>
                <a:path w="390" h="173">
                  <a:moveTo>
                    <a:pt x="390" y="123"/>
                  </a:moveTo>
                  <a:lnTo>
                    <a:pt x="352" y="0"/>
                  </a:lnTo>
                  <a:lnTo>
                    <a:pt x="0" y="173"/>
                  </a:lnTo>
                  <a:lnTo>
                    <a:pt x="39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74920" y="121896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54880" y="3143160"/>
              <a:ext cx="57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23640" y="318744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6240" y="4924080"/>
              <a:ext cx="72000" cy="32760"/>
            </a:xfrm>
            <a:custGeom>
              <a:avLst/>
              <a:gdLst/>
              <a:ahLst/>
              <a:rect l="l" t="t" r="r" b="b"/>
              <a:pathLst>
                <a:path w="390" h="173">
                  <a:moveTo>
                    <a:pt x="390" y="123"/>
                  </a:moveTo>
                  <a:lnTo>
                    <a:pt x="352" y="0"/>
                  </a:lnTo>
                  <a:lnTo>
                    <a:pt x="0" y="173"/>
                  </a:lnTo>
                  <a:lnTo>
                    <a:pt x="390" y="12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18080" y="457200"/>
              <a:ext cx="3154680" cy="921600"/>
            </a:xfrm>
            <a:custGeom>
              <a:avLst/>
              <a:gdLst/>
              <a:ahLst/>
              <a:rect l="l" t="t" r="r" b="b"/>
              <a:pathLst>
                <a:path w="16933" h="4822">
                  <a:moveTo>
                    <a:pt x="16933" y="4822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55880" y="3232440"/>
              <a:ext cx="94680" cy="38160"/>
            </a:xfrm>
            <a:custGeom>
              <a:avLst/>
              <a:gdLst/>
              <a:ahLst/>
              <a:rect l="l" t="t" r="r" b="b"/>
              <a:pathLst>
                <a:path w="507" h="197">
                  <a:moveTo>
                    <a:pt x="507" y="0"/>
                  </a:moveTo>
                  <a:lnTo>
                    <a:pt x="0" y="197"/>
                  </a:lnTo>
                  <a:lnTo>
                    <a:pt x="2" y="19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45680" y="3166920"/>
              <a:ext cx="21600" cy="709920"/>
            </a:xfrm>
            <a:custGeom>
              <a:avLst/>
              <a:gdLst/>
              <a:ahLst/>
              <a:rect l="l" t="t" r="r" b="b"/>
              <a:pathLst>
                <a:path w="115" h="3715">
                  <a:moveTo>
                    <a:pt x="0" y="3715"/>
                  </a:moveTo>
                  <a:lnTo>
                    <a:pt x="114" y="0"/>
                  </a:lnTo>
                  <a:lnTo>
                    <a:pt x="11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80120" y="2747520"/>
              <a:ext cx="33120" cy="1129680"/>
            </a:xfrm>
            <a:custGeom>
              <a:avLst/>
              <a:gdLst/>
              <a:ahLst/>
              <a:rect l="l" t="t" r="r" b="b"/>
              <a:pathLst>
                <a:path w="180" h="5912">
                  <a:moveTo>
                    <a:pt x="0" y="5912"/>
                  </a:moveTo>
                  <a:lnTo>
                    <a:pt x="178" y="0"/>
                  </a:lnTo>
                  <a:lnTo>
                    <a:pt x="18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12880" y="2747520"/>
              <a:ext cx="532440" cy="1147320"/>
            </a:xfrm>
            <a:custGeom>
              <a:avLst/>
              <a:gdLst/>
              <a:ahLst/>
              <a:rect l="l" t="t" r="r" b="b"/>
              <a:pathLst>
                <a:path w="2858" h="6004">
                  <a:moveTo>
                    <a:pt x="2858" y="6004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80120" y="3877560"/>
              <a:ext cx="565560" cy="17640"/>
            </a:xfrm>
            <a:custGeom>
              <a:avLst/>
              <a:gdLst/>
              <a:ahLst/>
              <a:rect l="l" t="t" r="r" b="b"/>
              <a:pathLst>
                <a:path w="3036" h="92">
                  <a:moveTo>
                    <a:pt x="3036" y="9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33120" y="3305880"/>
              <a:ext cx="59400" cy="42120"/>
            </a:xfrm>
            <a:custGeom>
              <a:avLst/>
              <a:gdLst/>
              <a:ahLst/>
              <a:rect l="l" t="t" r="r" b="b"/>
              <a:pathLst>
                <a:path w="319" h="221">
                  <a:moveTo>
                    <a:pt x="319" y="0"/>
                  </a:moveTo>
                  <a:lnTo>
                    <a:pt x="0" y="221"/>
                  </a:lnTo>
                  <a:lnTo>
                    <a:pt x="1" y="2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86400" y="3270600"/>
              <a:ext cx="69120" cy="45720"/>
            </a:xfrm>
            <a:custGeom>
              <a:avLst/>
              <a:gdLst/>
              <a:ahLst/>
              <a:rect l="l" t="t" r="r" b="b"/>
              <a:pathLst>
                <a:path w="371" h="243">
                  <a:moveTo>
                    <a:pt x="0" y="128"/>
                  </a:moveTo>
                  <a:lnTo>
                    <a:pt x="61" y="243"/>
                  </a:lnTo>
                  <a:lnTo>
                    <a:pt x="371" y="0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58320" y="288144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W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86400" y="3270600"/>
              <a:ext cx="69120" cy="45720"/>
            </a:xfrm>
            <a:custGeom>
              <a:avLst/>
              <a:gdLst/>
              <a:ahLst/>
              <a:rect l="l" t="t" r="r" b="b"/>
              <a:pathLst>
                <a:path w="371" h="243">
                  <a:moveTo>
                    <a:pt x="0" y="128"/>
                  </a:moveTo>
                  <a:lnTo>
                    <a:pt x="61" y="243"/>
                  </a:lnTo>
                  <a:lnTo>
                    <a:pt x="371" y="0"/>
                  </a:lnTo>
                  <a:lnTo>
                    <a:pt x="0" y="1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62880" y="3203280"/>
              <a:ext cx="102600" cy="4680"/>
            </a:xfrm>
            <a:custGeom>
              <a:avLst/>
              <a:gdLst/>
              <a:ahLst/>
              <a:rect l="l" t="t" r="r" b="b"/>
              <a:pathLst>
                <a:path w="552" h="26">
                  <a:moveTo>
                    <a:pt x="552" y="0"/>
                  </a:moveTo>
                  <a:lnTo>
                    <a:pt x="0" y="26"/>
                  </a:lnTo>
                  <a:lnTo>
                    <a:pt x="1" y="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65840" y="3197520"/>
              <a:ext cx="72720" cy="24120"/>
            </a:xfrm>
            <a:custGeom>
              <a:avLst/>
              <a:gdLst/>
              <a:ahLst/>
              <a:rect l="l" t="t" r="r" b="b"/>
              <a:pathLst>
                <a:path w="391" h="129">
                  <a:moveTo>
                    <a:pt x="381" y="129"/>
                  </a:moveTo>
                  <a:lnTo>
                    <a:pt x="391" y="0"/>
                  </a:lnTo>
                  <a:lnTo>
                    <a:pt x="0" y="31"/>
                  </a:lnTo>
                  <a:lnTo>
                    <a:pt x="381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65840" y="3197520"/>
              <a:ext cx="72720" cy="24120"/>
            </a:xfrm>
            <a:custGeom>
              <a:avLst/>
              <a:gdLst/>
              <a:ahLst/>
              <a:rect l="l" t="t" r="r" b="b"/>
              <a:pathLst>
                <a:path w="391" h="129">
                  <a:moveTo>
                    <a:pt x="381" y="129"/>
                  </a:moveTo>
                  <a:lnTo>
                    <a:pt x="391" y="0"/>
                  </a:lnTo>
                  <a:lnTo>
                    <a:pt x="0" y="31"/>
                  </a:lnTo>
                  <a:lnTo>
                    <a:pt x="381" y="12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037480" y="3209760"/>
              <a:ext cx="71640" cy="14400"/>
            </a:xfrm>
            <a:custGeom>
              <a:avLst/>
              <a:gdLst/>
              <a:ahLst/>
              <a:rect l="l" t="t" r="r" b="b"/>
              <a:pathLst>
                <a:path w="381" h="75">
                  <a:moveTo>
                    <a:pt x="381" y="7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32120" y="1074240"/>
              <a:ext cx="10440" cy="149040"/>
            </a:xfrm>
            <a:custGeom>
              <a:avLst/>
              <a:gdLst/>
              <a:ahLst/>
              <a:rect l="l" t="t" r="r" b="b"/>
              <a:pathLst>
                <a:path w="57" h="778">
                  <a:moveTo>
                    <a:pt x="57" y="0"/>
                  </a:moveTo>
                  <a:lnTo>
                    <a:pt x="0" y="778"/>
                  </a:lnTo>
                  <a:lnTo>
                    <a:pt x="1" y="77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31880" y="987120"/>
              <a:ext cx="1200960" cy="310680"/>
            </a:xfrm>
            <a:custGeom>
              <a:avLst/>
              <a:gdLst/>
              <a:ahLst/>
              <a:rect l="l" t="t" r="r" b="b"/>
              <a:pathLst>
                <a:path w="6449" h="1622">
                  <a:moveTo>
                    <a:pt x="6449" y="0"/>
                  </a:moveTo>
                  <a:lnTo>
                    <a:pt x="0" y="1622"/>
                  </a:lnTo>
                  <a:lnTo>
                    <a:pt x="2" y="16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33200" y="987120"/>
              <a:ext cx="1059480" cy="309600"/>
            </a:xfrm>
            <a:custGeom>
              <a:avLst/>
              <a:gdLst/>
              <a:ahLst/>
              <a:rect l="l" t="t" r="r" b="b"/>
              <a:pathLst>
                <a:path w="5687" h="1619">
                  <a:moveTo>
                    <a:pt x="0" y="0"/>
                  </a:moveTo>
                  <a:lnTo>
                    <a:pt x="5686" y="1619"/>
                  </a:lnTo>
                  <a:lnTo>
                    <a:pt x="5687" y="16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95160" y="24062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50960" y="245052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51440" y="1297080"/>
              <a:ext cx="740520" cy="894240"/>
            </a:xfrm>
            <a:custGeom>
              <a:avLst/>
              <a:gdLst/>
              <a:ahLst/>
              <a:rect l="l" t="t" r="r" b="b"/>
              <a:pathLst>
                <a:path w="3977" h="4677">
                  <a:moveTo>
                    <a:pt x="3977" y="0"/>
                  </a:moveTo>
                  <a:lnTo>
                    <a:pt x="2727" y="428"/>
                  </a:lnTo>
                  <a:lnTo>
                    <a:pt x="1636" y="1171"/>
                  </a:lnTo>
                  <a:lnTo>
                    <a:pt x="780" y="2178"/>
                  </a:lnTo>
                  <a:lnTo>
                    <a:pt x="221" y="3374"/>
                  </a:lnTo>
                  <a:lnTo>
                    <a:pt x="0" y="4677"/>
                  </a:lnTo>
                  <a:lnTo>
                    <a:pt x="1" y="467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69080" y="2191320"/>
              <a:ext cx="429120" cy="720"/>
            </a:xfrm>
            <a:custGeom>
              <a:avLst/>
              <a:gdLst/>
              <a:ahLst/>
              <a:rect l="l" t="t" r="r" b="b"/>
              <a:pathLst>
                <a:path w="2305" h="0">
                  <a:moveTo>
                    <a:pt x="0" y="0"/>
                  </a:moveTo>
                  <a:lnTo>
                    <a:pt x="2304" y="0"/>
                  </a:lnTo>
                  <a:lnTo>
                    <a:pt x="230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0640" y="1297080"/>
              <a:ext cx="1200960" cy="309600"/>
            </a:xfrm>
            <a:custGeom>
              <a:avLst/>
              <a:gdLst/>
              <a:ahLst/>
              <a:rect l="l" t="t" r="r" b="b"/>
              <a:pathLst>
                <a:path w="6447" h="1621">
                  <a:moveTo>
                    <a:pt x="6447" y="0"/>
                  </a:moveTo>
                  <a:lnTo>
                    <a:pt x="0" y="1621"/>
                  </a:lnTo>
                  <a:lnTo>
                    <a:pt x="1" y="16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31880" y="1297080"/>
              <a:ext cx="2259720" cy="720"/>
            </a:xfrm>
            <a:custGeom>
              <a:avLst/>
              <a:gdLst/>
              <a:ahLst/>
              <a:rect l="l" t="t" r="r" b="b"/>
              <a:pathLst>
                <a:path w="12135" h="3">
                  <a:moveTo>
                    <a:pt x="12135" y="0"/>
                  </a:moveTo>
                  <a:lnTo>
                    <a:pt x="0" y="3"/>
                  </a:lnTo>
                  <a:lnTo>
                    <a:pt x="2" y="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23080" y="2545560"/>
              <a:ext cx="151560" cy="61200"/>
            </a:xfrm>
            <a:custGeom>
              <a:avLst/>
              <a:gdLst/>
              <a:ahLst/>
              <a:rect l="l" t="t" r="r" b="b"/>
              <a:pathLst>
                <a:path w="816" h="321">
                  <a:moveTo>
                    <a:pt x="0" y="321"/>
                  </a:moveTo>
                  <a:lnTo>
                    <a:pt x="814" y="0"/>
                  </a:lnTo>
                  <a:lnTo>
                    <a:pt x="81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156800" y="2506680"/>
              <a:ext cx="78840" cy="102240"/>
            </a:xfrm>
            <a:custGeom>
              <a:avLst/>
              <a:gdLst/>
              <a:ahLst/>
              <a:rect l="l" t="t" r="r" b="b"/>
              <a:pathLst>
                <a:path w="421" h="538">
                  <a:moveTo>
                    <a:pt x="0" y="0"/>
                  </a:moveTo>
                  <a:lnTo>
                    <a:pt x="420" y="538"/>
                  </a:lnTo>
                  <a:lnTo>
                    <a:pt x="421" y="53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46560" y="2191320"/>
              <a:ext cx="360" cy="907920"/>
            </a:xfrm>
            <a:custGeom>
              <a:avLst/>
              <a:gdLst/>
              <a:ahLst/>
              <a:rect l="l" t="t" r="r" b="b"/>
              <a:pathLst>
                <a:path w="2" h="4747">
                  <a:moveTo>
                    <a:pt x="0" y="4747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51440" y="2191320"/>
              <a:ext cx="360" cy="907920"/>
            </a:xfrm>
            <a:custGeom>
              <a:avLst/>
              <a:gdLst/>
              <a:ahLst/>
              <a:rect l="l" t="t" r="r" b="b"/>
              <a:pathLst>
                <a:path w="1" h="4747">
                  <a:moveTo>
                    <a:pt x="0" y="474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14520" y="3260160"/>
              <a:ext cx="290520" cy="236880"/>
            </a:xfrm>
            <a:custGeom>
              <a:avLst/>
              <a:gdLst/>
              <a:ahLst/>
              <a:rect l="l" t="t" r="r" b="b"/>
              <a:pathLst>
                <a:path w="1558" h="1241">
                  <a:moveTo>
                    <a:pt x="0" y="0"/>
                  </a:moveTo>
                  <a:lnTo>
                    <a:pt x="1557" y="1241"/>
                  </a:lnTo>
                  <a:lnTo>
                    <a:pt x="1558" y="12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46560" y="3099600"/>
              <a:ext cx="704880" cy="360"/>
            </a:xfrm>
            <a:custGeom>
              <a:avLst/>
              <a:gdLst/>
              <a:ahLst/>
              <a:rect l="l" t="t" r="r" b="b"/>
              <a:pathLst>
                <a:path w="3783" h="0">
                  <a:moveTo>
                    <a:pt x="3783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58720" y="3213360"/>
              <a:ext cx="63000" cy="55800"/>
            </a:xfrm>
            <a:custGeom>
              <a:avLst/>
              <a:gdLst/>
              <a:ahLst/>
              <a:rect l="l" t="t" r="r" b="b"/>
              <a:pathLst>
                <a:path w="343" h="293">
                  <a:moveTo>
                    <a:pt x="343" y="192"/>
                  </a:moveTo>
                  <a:lnTo>
                    <a:pt x="264" y="293"/>
                  </a:lnTo>
                  <a:lnTo>
                    <a:pt x="0" y="0"/>
                  </a:lnTo>
                  <a:lnTo>
                    <a:pt x="343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58720" y="3213360"/>
              <a:ext cx="63000" cy="55800"/>
            </a:xfrm>
            <a:custGeom>
              <a:avLst/>
              <a:gdLst/>
              <a:ahLst/>
              <a:rect l="l" t="t" r="r" b="b"/>
              <a:pathLst>
                <a:path w="343" h="293">
                  <a:moveTo>
                    <a:pt x="343" y="192"/>
                  </a:moveTo>
                  <a:lnTo>
                    <a:pt x="264" y="293"/>
                  </a:lnTo>
                  <a:lnTo>
                    <a:pt x="0" y="0"/>
                  </a:lnTo>
                  <a:lnTo>
                    <a:pt x="343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18040" y="3184200"/>
              <a:ext cx="62640" cy="81000"/>
            </a:xfrm>
            <a:custGeom>
              <a:avLst/>
              <a:gdLst/>
              <a:ahLst/>
              <a:rect l="l" t="t" r="r" b="b"/>
              <a:pathLst>
                <a:path w="337" h="421">
                  <a:moveTo>
                    <a:pt x="0" y="421"/>
                  </a:moveTo>
                  <a:lnTo>
                    <a:pt x="335" y="0"/>
                  </a:lnTo>
                  <a:lnTo>
                    <a:pt x="33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355520" y="3620520"/>
              <a:ext cx="290520" cy="237600"/>
            </a:xfrm>
            <a:custGeom>
              <a:avLst/>
              <a:gdLst/>
              <a:ahLst/>
              <a:rect l="l" t="t" r="r" b="b"/>
              <a:pathLst>
                <a:path w="1559" h="1241">
                  <a:moveTo>
                    <a:pt x="1559" y="1241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74160" y="3521880"/>
              <a:ext cx="12600" cy="74160"/>
            </a:xfrm>
            <a:custGeom>
              <a:avLst/>
              <a:gdLst/>
              <a:ahLst/>
              <a:rect l="l" t="t" r="r" b="b"/>
              <a:pathLst>
                <a:path w="65" h="388">
                  <a:moveTo>
                    <a:pt x="0" y="0"/>
                  </a:moveTo>
                  <a:lnTo>
                    <a:pt x="0" y="322"/>
                  </a:lnTo>
                  <a:lnTo>
                    <a:pt x="64" y="388"/>
                  </a:lnTo>
                  <a:lnTo>
                    <a:pt x="65" y="3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38840" y="3848400"/>
              <a:ext cx="63720" cy="55800"/>
            </a:xfrm>
            <a:custGeom>
              <a:avLst/>
              <a:gdLst/>
              <a:ahLst/>
              <a:rect l="l" t="t" r="r" b="b"/>
              <a:pathLst>
                <a:path w="343" h="291">
                  <a:moveTo>
                    <a:pt x="81" y="0"/>
                  </a:moveTo>
                  <a:lnTo>
                    <a:pt x="0" y="101"/>
                  </a:lnTo>
                  <a:lnTo>
                    <a:pt x="343" y="29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22240" y="284004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38840" y="3848400"/>
              <a:ext cx="63720" cy="55800"/>
            </a:xfrm>
            <a:custGeom>
              <a:avLst/>
              <a:gdLst/>
              <a:ahLst/>
              <a:rect l="l" t="t" r="r" b="b"/>
              <a:pathLst>
                <a:path w="343" h="291">
                  <a:moveTo>
                    <a:pt x="81" y="0"/>
                  </a:moveTo>
                  <a:lnTo>
                    <a:pt x="0" y="101"/>
                  </a:lnTo>
                  <a:lnTo>
                    <a:pt x="343" y="291"/>
                  </a:lnTo>
                  <a:lnTo>
                    <a:pt x="8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27360" y="2599920"/>
              <a:ext cx="60840" cy="58680"/>
            </a:xfrm>
            <a:custGeom>
              <a:avLst/>
              <a:gdLst/>
              <a:ahLst/>
              <a:rect l="l" t="t" r="r" b="b"/>
              <a:pathLst>
                <a:path w="330" h="307">
                  <a:moveTo>
                    <a:pt x="86" y="0"/>
                  </a:moveTo>
                  <a:lnTo>
                    <a:pt x="0" y="96"/>
                  </a:lnTo>
                  <a:lnTo>
                    <a:pt x="330" y="307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13000" y="289224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W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27360" y="2599920"/>
              <a:ext cx="60840" cy="58680"/>
            </a:xfrm>
            <a:custGeom>
              <a:avLst/>
              <a:gdLst/>
              <a:ahLst/>
              <a:rect l="l" t="t" r="r" b="b"/>
              <a:pathLst>
                <a:path w="330" h="307">
                  <a:moveTo>
                    <a:pt x="86" y="0"/>
                  </a:moveTo>
                  <a:lnTo>
                    <a:pt x="0" y="96"/>
                  </a:lnTo>
                  <a:lnTo>
                    <a:pt x="330" y="307"/>
                  </a:lnTo>
                  <a:lnTo>
                    <a:pt x="8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51440" y="2594520"/>
              <a:ext cx="72720" cy="25200"/>
            </a:xfrm>
            <a:custGeom>
              <a:avLst/>
              <a:gdLst/>
              <a:ahLst/>
              <a:rect l="l" t="t" r="r" b="b"/>
              <a:pathLst>
                <a:path w="391" h="129">
                  <a:moveTo>
                    <a:pt x="391" y="129"/>
                  </a:moveTo>
                  <a:lnTo>
                    <a:pt x="379" y="0"/>
                  </a:lnTo>
                  <a:lnTo>
                    <a:pt x="0" y="99"/>
                  </a:lnTo>
                  <a:lnTo>
                    <a:pt x="391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65640" y="197460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U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51440" y="2594520"/>
              <a:ext cx="72720" cy="25200"/>
            </a:xfrm>
            <a:custGeom>
              <a:avLst/>
              <a:gdLst/>
              <a:ahLst/>
              <a:rect l="l" t="t" r="r" b="b"/>
              <a:pathLst>
                <a:path w="391" h="129">
                  <a:moveTo>
                    <a:pt x="391" y="129"/>
                  </a:moveTo>
                  <a:lnTo>
                    <a:pt x="379" y="0"/>
                  </a:lnTo>
                  <a:lnTo>
                    <a:pt x="0" y="99"/>
                  </a:lnTo>
                  <a:lnTo>
                    <a:pt x="391" y="12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46560" y="2191320"/>
              <a:ext cx="704880" cy="720"/>
            </a:xfrm>
            <a:custGeom>
              <a:avLst/>
              <a:gdLst/>
              <a:ahLst/>
              <a:rect l="l" t="t" r="r" b="b"/>
              <a:pathLst>
                <a:path w="3783" h="0">
                  <a:moveTo>
                    <a:pt x="3783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31880" y="1297800"/>
              <a:ext cx="1059480" cy="308880"/>
            </a:xfrm>
            <a:custGeom>
              <a:avLst/>
              <a:gdLst/>
              <a:ahLst/>
              <a:rect l="l" t="t" r="r" b="b"/>
              <a:pathLst>
                <a:path w="5689" h="1618">
                  <a:moveTo>
                    <a:pt x="0" y="0"/>
                  </a:moveTo>
                  <a:lnTo>
                    <a:pt x="5688" y="1618"/>
                  </a:lnTo>
                  <a:lnTo>
                    <a:pt x="5689" y="161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19520" y="1222920"/>
              <a:ext cx="23760" cy="73800"/>
            </a:xfrm>
            <a:custGeom>
              <a:avLst/>
              <a:gdLst/>
              <a:ahLst/>
              <a:rect l="l" t="t" r="r" b="b"/>
              <a:pathLst>
                <a:path w="129" h="389">
                  <a:moveTo>
                    <a:pt x="129" y="3"/>
                  </a:moveTo>
                  <a:lnTo>
                    <a:pt x="0" y="0"/>
                  </a:lnTo>
                  <a:lnTo>
                    <a:pt x="57" y="389"/>
                  </a:lnTo>
                  <a:lnTo>
                    <a:pt x="12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19520" y="1222920"/>
              <a:ext cx="23760" cy="73800"/>
            </a:xfrm>
            <a:custGeom>
              <a:avLst/>
              <a:gdLst/>
              <a:ahLst/>
              <a:rect l="l" t="t" r="r" b="b"/>
              <a:pathLst>
                <a:path w="129" h="389">
                  <a:moveTo>
                    <a:pt x="129" y="3"/>
                  </a:moveTo>
                  <a:lnTo>
                    <a:pt x="0" y="0"/>
                  </a:lnTo>
                  <a:lnTo>
                    <a:pt x="57" y="389"/>
                  </a:lnTo>
                  <a:lnTo>
                    <a:pt x="129" y="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61760" y="2191320"/>
              <a:ext cx="23760" cy="74880"/>
            </a:xfrm>
            <a:custGeom>
              <a:avLst/>
              <a:gdLst/>
              <a:ahLst/>
              <a:rect l="l" t="t" r="r" b="b"/>
              <a:pathLst>
                <a:path w="129" h="391">
                  <a:moveTo>
                    <a:pt x="0" y="391"/>
                  </a:moveTo>
                  <a:lnTo>
                    <a:pt x="129" y="382"/>
                  </a:lnTo>
                  <a:lnTo>
                    <a:pt x="41" y="0"/>
                  </a:lnTo>
                  <a:lnTo>
                    <a:pt x="0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74720" y="2379600"/>
              <a:ext cx="57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41680" y="242064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83880" y="158544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W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61760" y="2191320"/>
              <a:ext cx="23760" cy="74880"/>
            </a:xfrm>
            <a:custGeom>
              <a:avLst/>
              <a:gdLst/>
              <a:ahLst/>
              <a:rect l="l" t="t" r="r" b="b"/>
              <a:pathLst>
                <a:path w="129" h="391">
                  <a:moveTo>
                    <a:pt x="0" y="391"/>
                  </a:moveTo>
                  <a:lnTo>
                    <a:pt x="129" y="382"/>
                  </a:lnTo>
                  <a:lnTo>
                    <a:pt x="41" y="0"/>
                  </a:lnTo>
                  <a:lnTo>
                    <a:pt x="0" y="3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74000" y="2265480"/>
              <a:ext cx="30240" cy="129960"/>
            </a:xfrm>
            <a:custGeom>
              <a:avLst/>
              <a:gdLst/>
              <a:ahLst/>
              <a:rect l="l" t="t" r="r" b="b"/>
              <a:pathLst>
                <a:path w="164" h="679">
                  <a:moveTo>
                    <a:pt x="0" y="0"/>
                  </a:moveTo>
                  <a:lnTo>
                    <a:pt x="162" y="679"/>
                  </a:lnTo>
                  <a:lnTo>
                    <a:pt x="164" y="67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43840" y="2191320"/>
              <a:ext cx="23760" cy="74880"/>
            </a:xfrm>
            <a:custGeom>
              <a:avLst/>
              <a:gdLst/>
              <a:ahLst/>
              <a:rect l="l" t="t" r="r" b="b"/>
              <a:pathLst>
                <a:path w="129" h="391">
                  <a:moveTo>
                    <a:pt x="0" y="381"/>
                  </a:moveTo>
                  <a:lnTo>
                    <a:pt x="129" y="391"/>
                  </a:lnTo>
                  <a:lnTo>
                    <a:pt x="98" y="0"/>
                  </a:lnTo>
                  <a:lnTo>
                    <a:pt x="0" y="3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37600" y="15159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397360" y="156024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43840" y="2191320"/>
              <a:ext cx="23760" cy="74880"/>
            </a:xfrm>
            <a:custGeom>
              <a:avLst/>
              <a:gdLst/>
              <a:ahLst/>
              <a:rect l="l" t="t" r="r" b="b"/>
              <a:pathLst>
                <a:path w="129" h="391">
                  <a:moveTo>
                    <a:pt x="0" y="381"/>
                  </a:moveTo>
                  <a:lnTo>
                    <a:pt x="129" y="391"/>
                  </a:lnTo>
                  <a:lnTo>
                    <a:pt x="98" y="0"/>
                  </a:lnTo>
                  <a:lnTo>
                    <a:pt x="0" y="38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87320" y="2265480"/>
              <a:ext cx="68400" cy="168840"/>
            </a:xfrm>
            <a:custGeom>
              <a:avLst/>
              <a:gdLst/>
              <a:ahLst/>
              <a:rect l="l" t="t" r="r" b="b"/>
              <a:pathLst>
                <a:path w="369" h="884">
                  <a:moveTo>
                    <a:pt x="0" y="884"/>
                  </a:moveTo>
                  <a:lnTo>
                    <a:pt x="368" y="0"/>
                  </a:lnTo>
                  <a:lnTo>
                    <a:pt x="36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078400" y="1453680"/>
              <a:ext cx="622800" cy="201960"/>
            </a:xfrm>
            <a:custGeom>
              <a:avLst/>
              <a:gdLst/>
              <a:ahLst/>
              <a:rect l="l" t="t" r="r" b="b"/>
              <a:pathLst>
                <a:path w="3347" h="1054">
                  <a:moveTo>
                    <a:pt x="0" y="0"/>
                  </a:moveTo>
                  <a:lnTo>
                    <a:pt x="407" y="551"/>
                  </a:lnTo>
                  <a:lnTo>
                    <a:pt x="986" y="919"/>
                  </a:lnTo>
                  <a:lnTo>
                    <a:pt x="1657" y="1054"/>
                  </a:lnTo>
                  <a:lnTo>
                    <a:pt x="2333" y="940"/>
                  </a:lnTo>
                  <a:lnTo>
                    <a:pt x="2921" y="590"/>
                  </a:lnTo>
                  <a:lnTo>
                    <a:pt x="3346" y="52"/>
                  </a:lnTo>
                  <a:lnTo>
                    <a:pt x="3347" y="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53920" y="1384200"/>
              <a:ext cx="35640" cy="74160"/>
            </a:xfrm>
            <a:custGeom>
              <a:avLst/>
              <a:gdLst/>
              <a:ahLst/>
              <a:rect l="l" t="t" r="r" b="b"/>
              <a:pathLst>
                <a:path w="193" h="387">
                  <a:moveTo>
                    <a:pt x="72" y="387"/>
                  </a:moveTo>
                  <a:lnTo>
                    <a:pt x="193" y="342"/>
                  </a:lnTo>
                  <a:lnTo>
                    <a:pt x="0" y="0"/>
                  </a:lnTo>
                  <a:lnTo>
                    <a:pt x="72" y="3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53920" y="1384200"/>
              <a:ext cx="35640" cy="74160"/>
            </a:xfrm>
            <a:custGeom>
              <a:avLst/>
              <a:gdLst/>
              <a:ahLst/>
              <a:rect l="l" t="t" r="r" b="b"/>
              <a:pathLst>
                <a:path w="193" h="387">
                  <a:moveTo>
                    <a:pt x="72" y="387"/>
                  </a:moveTo>
                  <a:lnTo>
                    <a:pt x="193" y="342"/>
                  </a:lnTo>
                  <a:lnTo>
                    <a:pt x="0" y="0"/>
                  </a:lnTo>
                  <a:lnTo>
                    <a:pt x="72" y="3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90040" y="1395720"/>
              <a:ext cx="37800" cy="72360"/>
            </a:xfrm>
            <a:custGeom>
              <a:avLst/>
              <a:gdLst/>
              <a:ahLst/>
              <a:rect l="l" t="t" r="r" b="b"/>
              <a:pathLst>
                <a:path w="203" h="383">
                  <a:moveTo>
                    <a:pt x="0" y="335"/>
                  </a:moveTo>
                  <a:lnTo>
                    <a:pt x="120" y="383"/>
                  </a:lnTo>
                  <a:lnTo>
                    <a:pt x="203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96480" y="944280"/>
              <a:ext cx="57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63800" y="98856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690040" y="1395720"/>
              <a:ext cx="37800" cy="72360"/>
            </a:xfrm>
            <a:custGeom>
              <a:avLst/>
              <a:gdLst/>
              <a:ahLst/>
              <a:rect l="l" t="t" r="r" b="b"/>
              <a:pathLst>
                <a:path w="203" h="383">
                  <a:moveTo>
                    <a:pt x="0" y="335"/>
                  </a:moveTo>
                  <a:lnTo>
                    <a:pt x="120" y="383"/>
                  </a:lnTo>
                  <a:lnTo>
                    <a:pt x="203" y="0"/>
                  </a:lnTo>
                  <a:lnTo>
                    <a:pt x="0" y="33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690040" y="1384200"/>
              <a:ext cx="72720" cy="20520"/>
            </a:xfrm>
            <a:custGeom>
              <a:avLst/>
              <a:gdLst/>
              <a:ahLst/>
              <a:rect l="l" t="t" r="r" b="b"/>
              <a:pathLst>
                <a:path w="393" h="111">
                  <a:moveTo>
                    <a:pt x="0" y="0"/>
                  </a:moveTo>
                  <a:lnTo>
                    <a:pt x="392" y="111"/>
                  </a:lnTo>
                  <a:lnTo>
                    <a:pt x="393" y="1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57680" y="817200"/>
              <a:ext cx="28800" cy="145800"/>
            </a:xfrm>
            <a:custGeom>
              <a:avLst/>
              <a:gdLst/>
              <a:ahLst/>
              <a:rect l="l" t="t" r="r" b="b"/>
              <a:pathLst>
                <a:path w="157" h="764">
                  <a:moveTo>
                    <a:pt x="157" y="0"/>
                  </a:moveTo>
                  <a:lnTo>
                    <a:pt x="0" y="764"/>
                  </a:lnTo>
                  <a:lnTo>
                    <a:pt x="1" y="7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75680" y="745200"/>
              <a:ext cx="29520" cy="74880"/>
            </a:xfrm>
            <a:custGeom>
              <a:avLst/>
              <a:gdLst/>
              <a:ahLst/>
              <a:rect l="l" t="t" r="r" b="b"/>
              <a:pathLst>
                <a:path w="162" h="392">
                  <a:moveTo>
                    <a:pt x="0" y="358"/>
                  </a:moveTo>
                  <a:lnTo>
                    <a:pt x="125" y="392"/>
                  </a:lnTo>
                  <a:lnTo>
                    <a:pt x="162" y="0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40120" y="82872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U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75680" y="745200"/>
              <a:ext cx="29520" cy="74880"/>
            </a:xfrm>
            <a:custGeom>
              <a:avLst/>
              <a:gdLst/>
              <a:ahLst/>
              <a:rect l="l" t="t" r="r" b="b"/>
              <a:pathLst>
                <a:path w="162" h="392">
                  <a:moveTo>
                    <a:pt x="0" y="358"/>
                  </a:moveTo>
                  <a:lnTo>
                    <a:pt x="125" y="392"/>
                  </a:lnTo>
                  <a:lnTo>
                    <a:pt x="162" y="0"/>
                  </a:lnTo>
                  <a:lnTo>
                    <a:pt x="0" y="35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47960" y="22824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ISEÑO HIDRAU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26960" y="5856120"/>
            <a:ext cx="3840120" cy="10018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105520" y="1219320"/>
            <a:ext cx="3276360" cy="1323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5029200" y="2666880"/>
            <a:ext cx="3295800" cy="40388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057400" y="525780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banki_05_0001" descr=""/>
          <p:cNvPicPr/>
          <p:nvPr/>
        </p:nvPicPr>
        <p:blipFill>
          <a:blip r:embed="rId4"/>
          <a:stretch/>
        </p:blipFill>
        <p:spPr>
          <a:xfrm>
            <a:off x="93600" y="76320"/>
            <a:ext cx="5011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029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YECTOR SIN REGU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57800" y="1522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áquinas de baja pot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carga casi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33520" y="1452600"/>
            <a:ext cx="3467160" cy="41101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809880" y="914400"/>
            <a:ext cx="5334120" cy="2700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4038480" y="3581280"/>
            <a:ext cx="2590920" cy="928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6781680" y="3733920"/>
            <a:ext cx="1878120" cy="7318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472640" y="4572000"/>
            <a:ext cx="383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     : espesor ála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Za  : nro de álabes en la adm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z     : nro de álabes en el ro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    : diámetro del ro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  : arco de la adm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: ángulo de la adm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572000" y="6095880"/>
                <a:ext cx="357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04920" y="246240"/>
            <a:ext cx="8839080" cy="40971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048120" y="4876920"/>
            <a:ext cx="1535040" cy="7142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50480" y="4800600"/>
            <a:ext cx="202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orí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lujo pot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362320" y="50292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7620120" y="4952880"/>
            <a:ext cx="1523880" cy="5763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874760" y="4876920"/>
            <a:ext cx="228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y de torbell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t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5334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47000" y="606096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egr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61722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3505320" y="5516640"/>
            <a:ext cx="19810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4:25:47Z</dcterms:created>
  <dc:creator>Norberto Nigro</dc:creator>
  <dc:description/>
  <dc:language>en-US</dc:language>
  <cp:lastModifiedBy>Norberto Nigro</cp:lastModifiedBy>
  <dcterms:modified xsi:type="dcterms:W3CDTF">2002-10-26T16:31:23Z</dcterms:modified>
  <cp:revision>2</cp:revision>
  <dc:subject/>
  <dc:title>MODELACION NUMERICA DEL FLUJO EN EL INYECTOR DE  UNA  TURBINA HIDRÁULICA DE FLUJO TRANSVERSAL </dc:title>
</cp:coreProperties>
</file>